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580E-D18D-4341-B454-322C514220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78B2-0D9A-4D37-ABCC-3E9D3EFD0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285-1B4B-494E-92C5-4FC8AEB1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671-2DC8-49B1-BCAE-6876C732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2F7-9726-437E-A12E-CC418C01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FC1-27FD-49EE-A0C0-FEC4F1F5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7E04-4B86-44F4-B0DE-33242DE5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2A6E-840C-49A3-9723-96B777F7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82F7-A826-4351-B51C-FB5DE0C1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306F-6C64-49A7-B837-43CAD0F1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F18F-7CBE-4AEF-9B68-E2D04590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F117-EC9A-4025-8C37-29EC61C6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497B-33D6-482D-B8B8-B7EC913B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0D4-F1B8-4086-BD92-9C2FD628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22A9-AA59-458D-B484-647D8E0C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8375-9C51-437C-9733-CAE17FF5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4D25-112C-4B2C-912A-990BA782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B838-5CD2-4281-A58F-750AFF19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8593-C2D0-4758-AE0B-B1162D80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CDDC-3B85-41A6-86F9-30919A58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AFE2-0420-4DEB-ABFE-9A55D22C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208A-D935-4A8B-B483-2F91081C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37E7-3F74-401D-8378-2B706420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D36A8-E124-40E5-9BB0-5F2D3843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774-BDCF-47BE-A362-FC9B2D40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FAFBE-2D1C-4156-ADC9-A92B1F27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AE9D-2E2D-4509-B1A4-9092C6E3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AAA03-72BC-42B8-94BB-7C2E39C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A57F9-DE8D-4105-98EA-BDEF4FE3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976A-AFB4-4CB8-80C7-AA2752B2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1755-F1B8-4C5B-8DB1-0B5629AD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B0FB-35C4-4D26-A696-28B53A2D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21AB-C509-4D03-87F1-6E5C1A29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9555-71D6-4EC8-99C6-FA312D17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5F46F-C247-4AB7-9949-1087F0C7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3C5-3E9E-437C-A868-8E83ACCF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56F6-A334-4245-9A80-57BC8DE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4DBBC-FCB9-491A-9BA3-FE7DF5D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FE73A-A46B-4C44-A0FD-313F46DE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88EC0-E6AE-4978-9023-438A0B9E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957A-A8CD-4786-A4E7-8F8A54AC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94CE-F645-41DE-8EF8-9C57FE5F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3E76-E25C-4A33-8BDD-4E9E273E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99070-7154-4CB1-B162-1FF25888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2165-DAEA-4852-B825-1B29416E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B704A-3888-4810-95F3-7CAFC565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66F-79C4-475A-AC05-B2AFCADC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23A49-3CA6-40EB-8AC3-0D27AA88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D3B0E-FE4E-4432-94E4-15FEAF11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1C1D-C8BA-4518-8FDC-E03B7507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01AC-5B0E-4832-B193-1474D0D2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CE904-656C-4356-83E1-BC839BD8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346EC-4C17-431A-84FD-3D193D8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AB517-4E85-4344-818A-0F6AAA00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0C6E-5C51-4B8E-BCB6-5CB024DB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25BA9-99A7-4F59-918A-94438737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D915-D72F-4D9B-B640-7A4F48C0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C9D-604F-49C7-ADC9-B3EF405D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E148D-2AD5-41EE-AEB8-3AB14CF1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6320C-7BEE-4B62-A46F-1C7D021B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192F5-082E-4574-A177-42CE83B7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C4C0A-7B71-447B-A0A2-EF38E18C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F612C-9370-40BD-A618-D97B173D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07C19-2087-4574-B7A2-EC2DC46D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68DF6-C842-4491-B9A8-2096047B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33604-EEBC-49A1-8CF7-1F1D7EA5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8276A-3ADF-4B7D-B091-90C4F2CE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48F61-24A7-4458-9903-338A65E6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C82-4581-4D2E-8130-0EB1049C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6A5AE-FF69-4320-A2A2-B197728D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EB5C1D-9DA7-4C6C-99BD-ECD147C0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C11FC-AC31-4FD9-880D-F6E80C12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F99A6-A045-4FD6-BD7C-F1D1D199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CEDA-237B-423E-B6CE-0974160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6828E-12EE-4F54-AE5E-46C1940B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9F5BC-B5FF-463C-BBFB-EE197215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E916A-771D-4528-981A-134EF172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25B1A-C489-4B42-AF04-77EC3D00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37E3E-51B8-4456-BF59-50AFDBC4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A97-93F9-45BD-B583-174287D5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DD762-AE1A-4A58-93DB-B542B35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9B765-24E0-426A-96FA-93BE0FE0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273AD-055C-43BA-A65A-9C211976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E3092-0409-419C-A112-0BD2E546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9EB74-8729-4E29-BE7F-79B2F094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9A8-7946-487F-B4BA-F214728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90CE-7D89-4049-9359-5F250921054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2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2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3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A66E-F52E-42CA-B6BE-22CC4224CD83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2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209D-DDEB-49FD-98DC-54C805366C0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11C2-82E6-47EC-90D7-A67C4FEF864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2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5D6E-7111-41DC-9BEE-37291BEF0B7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2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359B-18E8-405C-8D70-C0DCBCF7226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3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1B6F-7802-4675-B43D-15D1A4F434C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4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15"/>
          <p:cNvSpPr/>
          <p:nvPr/>
        </p:nvSpPr>
        <p:spPr>
          <a:xfrm rot="10800000">
            <a:off x="228600" y="5028480"/>
            <a:ext cx="8686800" cy="1600200"/>
          </a:xfrm>
          <a:prstGeom prst="wedgeRoundRectCallout">
            <a:avLst>
              <a:gd name="adj1" fmla="val -680"/>
              <a:gd name="adj2" fmla="val 88787"/>
              <a:gd name="adj3" fmla="val 1666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 проекту Решения Собрания депутатов Новопоселеновского сельсовета Курского района Курской области «О бюджете Новопоселеновского сельсовета Курского района на 2024 год и на плановый период 2025 и 2026 год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0" y="152280"/>
            <a:ext cx="9347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ЮДЖЕТ 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0" y="3573360"/>
            <a:ext cx="929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поселеновского сель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C932-E3A0-4A67-ABA5-11B10514B60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1"/>
          <p:cNvSpPr/>
          <p:nvPr/>
        </p:nvSpPr>
        <p:spPr>
          <a:xfrm>
            <a:off x="685800" y="201924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участия населения в осуществлении местног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444600" y="380880"/>
            <a:ext cx="8381880" cy="838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убличные слушания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9"/>
          <p:cNvSpPr/>
          <p:nvPr/>
        </p:nvSpPr>
        <p:spPr>
          <a:xfrm>
            <a:off x="3848040" y="152388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1" descr="i?id=1ee30bfcfa906dff8767380a7bc64f7d-l&amp;n=13"/>
          <p:cNvPicPr/>
          <p:nvPr/>
        </p:nvPicPr>
        <p:blipFill>
          <a:blip r:embed="rId2"/>
          <a:stretch/>
        </p:blipFill>
        <p:spPr>
          <a:xfrm>
            <a:off x="228600" y="4572000"/>
            <a:ext cx="2971800" cy="17272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11"/>
          <p:cNvSpPr/>
          <p:nvPr/>
        </p:nvSpPr>
        <p:spPr>
          <a:xfrm>
            <a:off x="3276720" y="438156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публичных слушаний – заключ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выраженные позиции ж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а и рекомендации, сформирова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публичных слушани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1333440" y="2781360"/>
            <a:ext cx="640080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 организуются и проводя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выявления мнения населения по проек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на очередной финансовый г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 плановый период) и по отчету об исполнении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942D-98ED-4346-B5BA-AC5AF17BC5C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1"/>
          <p:cNvSpPr/>
          <p:nvPr/>
        </p:nvSpPr>
        <p:spPr>
          <a:xfrm>
            <a:off x="228600" y="16765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ном Кодексе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1"/>
          <p:cNvSpPr/>
          <p:nvPr/>
        </p:nvSpPr>
        <p:spPr>
          <a:xfrm>
            <a:off x="266760" y="25909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ном послании Президента РФ Федеральному Собранию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1981080" y="304920"/>
            <a:ext cx="579132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оставление проекта бюдже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новывается на …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1"/>
          <p:cNvSpPr/>
          <p:nvPr/>
        </p:nvSpPr>
        <p:spPr>
          <a:xfrm>
            <a:off x="266760" y="32767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З «Об общих принципах организации местного самоуправления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"/>
          <p:cNvSpPr/>
          <p:nvPr/>
        </p:nvSpPr>
        <p:spPr>
          <a:xfrm>
            <a:off x="241200" y="4114800"/>
            <a:ext cx="86868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х направлениях бюджетной и налоговой политики Новопоселеновского сель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кой области на 2024год и на плановый период 2025 и 2026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279360" y="5270400"/>
            <a:ext cx="86868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е социально-экономического развития Новопоселеновского сельсовета Курского 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024 год и на плановый период 2025 и 2026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4660-D0CC-478F-B096-D4454A2BA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1"/>
          <p:cNvSpPr/>
          <p:nvPr/>
        </p:nvSpPr>
        <p:spPr>
          <a:xfrm>
            <a:off x="406440" y="166212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обилизация резервов доходной базы консолидированного бюджета Новопоселеновского сельсовета Курского района Кур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343080" y="2362320"/>
            <a:ext cx="86104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ормирование реалистичного прогноза поступления дох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406440" y="380880"/>
            <a:ext cx="838188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новные направления налоговой политики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1"/>
          <p:cNvSpPr/>
          <p:nvPr/>
        </p:nvSpPr>
        <p:spPr>
          <a:xfrm>
            <a:off x="330120" y="3048120"/>
            <a:ext cx="86108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еспечение роста доходов бюджета Новопоселеновского сельсовета Курского района Курской обла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за счет повышения эффективности администрирования действующих налоговых платежей и сбор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1" descr="Kakie_peni_za_neuplatu_transportnogo_naloga__6"/>
          <p:cNvPicPr/>
          <p:nvPr/>
        </p:nvPicPr>
        <p:blipFill>
          <a:blip r:embed="rId2"/>
          <a:stretch/>
        </p:blipFill>
        <p:spPr>
          <a:xfrm>
            <a:off x="2819520" y="4572000"/>
            <a:ext cx="3143160" cy="2085840"/>
          </a:xfrm>
          <a:prstGeom prst="rect">
            <a:avLst/>
          </a:prstGeom>
          <a:ln w="0">
            <a:noFill/>
          </a:ln>
        </p:spPr>
      </p:pic>
      <p:sp>
        <p:nvSpPr>
          <p:cNvPr id="463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7" descr="i?id=cfd1d00aa0c64425b58075c9c1b9d05c-l&amp;n=13"/>
          <p:cNvPicPr/>
          <p:nvPr/>
        </p:nvPicPr>
        <p:blipFill>
          <a:blip r:embed="rId3"/>
          <a:stretch/>
        </p:blipFill>
        <p:spPr>
          <a:xfrm>
            <a:off x="457200" y="4495680"/>
            <a:ext cx="1353960" cy="21672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11"/>
          <p:cNvSpPr/>
          <p:nvPr/>
        </p:nvSpPr>
        <p:spPr>
          <a:xfrm>
            <a:off x="343080" y="3581280"/>
            <a:ext cx="861048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должение работы по вовлечению в налоговый оборот отдельных объектов недвижимост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 отношении которых налог на имущество исчисляется исходя из кадастровой стоим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31" descr="242d2"/>
          <p:cNvPicPr/>
          <p:nvPr/>
        </p:nvPicPr>
        <p:blipFill>
          <a:blip r:embed="rId4"/>
          <a:stretch/>
        </p:blipFill>
        <p:spPr>
          <a:xfrm>
            <a:off x="7315200" y="4572000"/>
            <a:ext cx="149868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FE88-617E-4839-9041-C0909A0505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1"/>
          <p:cNvSpPr/>
          <p:nvPr/>
        </p:nvSpPr>
        <p:spPr>
          <a:xfrm>
            <a:off x="190440" y="1592280"/>
            <a:ext cx="8763120" cy="298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еспечение долгосрочной сбалансированности и устойчивости бюджетной системы как базового принципа ответственной бюджетной полит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1"/>
          <p:cNvSpPr/>
          <p:nvPr/>
        </p:nvSpPr>
        <p:spPr>
          <a:xfrm>
            <a:off x="152280" y="1994040"/>
            <a:ext cx="8763120" cy="368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ализация мероприятий, направленных на повышение качества планирования и эффективности реализации муниципаль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грамм Новопоселеновского сельсовета Курского района Курской области исходя из ожидаемых результат</a:t>
            </a:r>
            <a:r>
              <a:rPr b="0" lang="ru-RU" sz="1000" spc="-1" strike="noStrike">
                <a:solidFill>
                  <a:srgbClr val="564b3c"/>
                </a:solidFill>
                <a:latin typeface="Century Gothic"/>
              </a:rPr>
              <a:t>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/>
          <p:cNvSpPr/>
          <p:nvPr/>
        </p:nvSpPr>
        <p:spPr>
          <a:xfrm>
            <a:off x="533520" y="457200"/>
            <a:ext cx="807696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Основные направления бюджетной политики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1"/>
          <p:cNvSpPr/>
          <p:nvPr/>
        </p:nvSpPr>
        <p:spPr>
          <a:xfrm>
            <a:off x="190440" y="2514600"/>
            <a:ext cx="8763120" cy="30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облюдение условий соглашений, заключенных Администрацией Новопоселеновского сельсовета Курского района Кур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 Управлением по бюджету и налогам Администрации Курского района Кур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1"/>
          <p:cNvSpPr/>
          <p:nvPr/>
        </p:nvSpPr>
        <p:spPr>
          <a:xfrm>
            <a:off x="152280" y="297180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ализация мер по повышению эффективности использования бюджетных средств, в том числе путем выполнения мероприят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 оздоровлению муниципальных финансов Новопоселеновского сельсовета Курского района Кур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1"/>
          <p:cNvSpPr/>
          <p:nvPr/>
        </p:nvSpPr>
        <p:spPr>
          <a:xfrm>
            <a:off x="152280" y="356868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инансовое обеспечение принятых расходных обязательств с учетом проведения мероприятий по их оптимизаци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окращению неэффективных расходов бюджета Новопоселеновского сельсовета Курского района Кур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1"/>
          <p:cNvSpPr/>
          <p:nvPr/>
        </p:nvSpPr>
        <p:spPr>
          <a:xfrm>
            <a:off x="190440" y="4699080"/>
            <a:ext cx="876312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трогое соблюдение бюджетно-финансовой дисципли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Администрацией Новопоселеновского сельсовета Курского района Курской област</a:t>
            </a:r>
            <a:r>
              <a:rPr b="0" lang="ru-RU" sz="1000" spc="-1" strike="noStrike">
                <a:solidFill>
                  <a:srgbClr val="564b3c"/>
                </a:solidFill>
                <a:latin typeface="Century Gothic"/>
              </a:rPr>
              <a:t>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1"/>
          <p:cNvSpPr/>
          <p:nvPr/>
        </p:nvSpPr>
        <p:spPr>
          <a:xfrm>
            <a:off x="228600" y="411480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едопущение установления и исполнения расходных обязательст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е относящихся к полномочиям органов местного самоуправ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152280" y="5410080"/>
            <a:ext cx="8763120" cy="30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едопущение просроченной кредиторской задолженности по заработной плате и социальным выплат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152280" y="5791320"/>
            <a:ext cx="8763120" cy="30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уществление анализа деятельности подведомственных казенных, бюджетных учрежде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1"/>
          <p:cNvSpPr/>
          <p:nvPr/>
        </p:nvSpPr>
        <p:spPr>
          <a:xfrm>
            <a:off x="152280" y="617220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овершенствование внутреннего муниципального финансового контроля в сфе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ных правоотношений, внутреннего финансового контроля и внутреннего финансового ауди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F5E1-7314-43CD-8D87-A1B4569CF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1"/>
          <p:cNvSpPr/>
          <p:nvPr/>
        </p:nvSpPr>
        <p:spPr>
          <a:xfrm>
            <a:off x="228600" y="1649520"/>
            <a:ext cx="8788320" cy="369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овершенствование межбюджетных отношений, повышение прозрачност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ффективности предоставления и распределения межбюджетных трансфер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190440" y="2133720"/>
            <a:ext cx="8801280" cy="30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должение реализации практики инициативного бюджетирования в Курской области в целя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овлечения граждан в решение первоочередных проблем местного значения и повышения уровня доверия к в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1"/>
          <p:cNvSpPr/>
          <p:nvPr/>
        </p:nvSpPr>
        <p:spPr>
          <a:xfrm>
            <a:off x="419040" y="228600"/>
            <a:ext cx="815364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64b3c"/>
                </a:solidFill>
                <a:latin typeface="Times New Roman"/>
              </a:rPr>
              <a:t>Основные направления бюджетной политики</a:t>
            </a: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1"/>
          <p:cNvSpPr/>
          <p:nvPr/>
        </p:nvSpPr>
        <p:spPr>
          <a:xfrm>
            <a:off x="254160" y="2540160"/>
            <a:ext cx="8762760" cy="533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еспечение открытости и прозрачности бюджетного процесса, доступности информ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 муниципальных финансах Новопоселеновского сельсовета Курского района Курской области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228600" y="3200400"/>
            <a:ext cx="87631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ализация мероприятий, направленных на повышение уровня финансовой (бюджетной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грамотности населения Новопоселеновского сельсовета Курского района Кур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76320" y="-36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1"/>
          <p:cNvSpPr/>
          <p:nvPr/>
        </p:nvSpPr>
        <p:spPr>
          <a:xfrm>
            <a:off x="533520" y="457200"/>
            <a:ext cx="83818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</a:t>
            </a:r>
            <a:r>
              <a:rPr b="1" lang="en-US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ожет быть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3"/>
          <p:cNvSpPr/>
          <p:nvPr/>
        </p:nvSpPr>
        <p:spPr>
          <a:xfrm>
            <a:off x="114480" y="345456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ышение доходо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расходам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ожительный остато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1"/>
          <p:cNvSpPr/>
          <p:nvPr/>
        </p:nvSpPr>
        <p:spPr>
          <a:xfrm>
            <a:off x="5867280" y="3530520"/>
            <a:ext cx="3276720" cy="11430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сходная час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превышает доходную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рицательный остато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1"/>
          <p:cNvSpPr/>
          <p:nvPr/>
        </p:nvSpPr>
        <p:spPr>
          <a:xfrm>
            <a:off x="380880" y="1752480"/>
            <a:ext cx="2210040" cy="1143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ИЦИТН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1"/>
          <p:cNvSpPr/>
          <p:nvPr/>
        </p:nvSpPr>
        <p:spPr>
          <a:xfrm>
            <a:off x="6705720" y="1752480"/>
            <a:ext cx="2133360" cy="1143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ФИЦИТН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9"/>
          <p:cNvSpPr/>
          <p:nvPr/>
        </p:nvSpPr>
        <p:spPr>
          <a:xfrm>
            <a:off x="1295280" y="287028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9"/>
          <p:cNvSpPr/>
          <p:nvPr/>
        </p:nvSpPr>
        <p:spPr>
          <a:xfrm>
            <a:off x="7467480" y="28954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1"/>
          <p:cNvSpPr/>
          <p:nvPr/>
        </p:nvSpPr>
        <p:spPr>
          <a:xfrm>
            <a:off x="3124080" y="175248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БАЛАНСИРОВАНН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3619440" y="3505320"/>
            <a:ext cx="1981440" cy="11430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расходо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у доход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29"/>
          <p:cNvSpPr/>
          <p:nvPr/>
        </p:nvSpPr>
        <p:spPr>
          <a:xfrm>
            <a:off x="4381560" y="2895480"/>
            <a:ext cx="457200" cy="609840"/>
          </a:xfrm>
          <a:prstGeom prst="downArrow">
            <a:avLst>
              <a:gd name="adj1" fmla="val 50000"/>
              <a:gd name="adj2" fmla="val 54188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FAF3-A53B-4DD1-B353-490058F3B6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1066680" y="36576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8" descr="деньги (1)"/>
          <p:cNvPicPr/>
          <p:nvPr/>
        </p:nvPicPr>
        <p:blipFill>
          <a:blip r:embed="rId2"/>
          <a:stretch/>
        </p:blipFill>
        <p:spPr>
          <a:xfrm>
            <a:off x="228600" y="5334120"/>
            <a:ext cx="8534520" cy="137160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11"/>
          <p:cNvSpPr/>
          <p:nvPr/>
        </p:nvSpPr>
        <p:spPr>
          <a:xfrm>
            <a:off x="736560" y="304920"/>
            <a:ext cx="7924680" cy="99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езвозмездные и безвозвра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 денежных средств в бюдж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1"/>
          <p:cNvSpPr/>
          <p:nvPr/>
        </p:nvSpPr>
        <p:spPr>
          <a:xfrm>
            <a:off x="685800" y="2819520"/>
            <a:ext cx="79246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23"/>
          <p:cNvSpPr/>
          <p:nvPr/>
        </p:nvSpPr>
        <p:spPr>
          <a:xfrm>
            <a:off x="228600" y="358128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3"/>
          <p:cNvSpPr/>
          <p:nvPr/>
        </p:nvSpPr>
        <p:spPr>
          <a:xfrm>
            <a:off x="762120" y="403848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3"/>
          <p:cNvSpPr/>
          <p:nvPr/>
        </p:nvSpPr>
        <p:spPr>
          <a:xfrm>
            <a:off x="1752480" y="457200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6858000" y="35812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3"/>
          <p:cNvSpPr/>
          <p:nvPr/>
        </p:nvSpPr>
        <p:spPr>
          <a:xfrm>
            <a:off x="6400800" y="44197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ующ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6"/>
          <p:cNvSpPr/>
          <p:nvPr/>
        </p:nvSpPr>
        <p:spPr>
          <a:xfrm>
            <a:off x="2133720" y="1523880"/>
            <a:ext cx="5410080" cy="3657600"/>
          </a:xfrm>
          <a:prstGeom prst="flowChartMerg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7415-4886-488B-BE36-B55497BFEEF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3816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1"/>
          <p:cNvSpPr/>
          <p:nvPr/>
        </p:nvSpPr>
        <p:spPr>
          <a:xfrm>
            <a:off x="495360" y="152280"/>
            <a:ext cx="8458200" cy="1143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е доходы бюджета Новопоселеновского сельсовет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оходы, закрепленные на постоянной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стью или частично за бюдже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поселеновского сельсовета Кур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6" descr="деньги (1)"/>
          <p:cNvPicPr/>
          <p:nvPr/>
        </p:nvPicPr>
        <p:blipFill>
          <a:blip r:embed="rId2"/>
          <a:stretch/>
        </p:blipFill>
        <p:spPr>
          <a:xfrm>
            <a:off x="5715000" y="320040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530" name="AutoShape 11"/>
          <p:cNvSpPr/>
          <p:nvPr/>
        </p:nvSpPr>
        <p:spPr>
          <a:xfrm>
            <a:off x="279360" y="2946240"/>
            <a:ext cx="6819840" cy="99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логовые доходы, зачисляемые в бюджет в соответстви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м РФ, законами субъектов РФ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ми правовыми ак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291960" y="4419720"/>
            <a:ext cx="6019920" cy="99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, полученные бюджетом в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х поступ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сключением субвен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1"/>
          <p:cNvSpPr/>
          <p:nvPr/>
        </p:nvSpPr>
        <p:spPr>
          <a:xfrm>
            <a:off x="380880" y="1523880"/>
            <a:ext cx="7620120" cy="1067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доходы, зачисляемые в бюджеты в соответстви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м законодательством РФ и законодательст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огах и сб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9"/>
          <p:cNvSpPr/>
          <p:nvPr/>
        </p:nvSpPr>
        <p:spPr>
          <a:xfrm>
            <a:off x="8242200" y="128124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9"/>
          <p:cNvSpPr/>
          <p:nvPr/>
        </p:nvSpPr>
        <p:spPr>
          <a:xfrm rot="5400000">
            <a:off x="8165520" y="198108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9"/>
          <p:cNvSpPr/>
          <p:nvPr/>
        </p:nvSpPr>
        <p:spPr>
          <a:xfrm rot="5400000">
            <a:off x="7441560" y="293364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9"/>
          <p:cNvSpPr/>
          <p:nvPr/>
        </p:nvSpPr>
        <p:spPr>
          <a:xfrm rot="5400000">
            <a:off x="7212960" y="388620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1AED-134A-4E7F-882A-7932981FF18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3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1"/>
          <p:cNvSpPr/>
          <p:nvPr/>
        </p:nvSpPr>
        <p:spPr>
          <a:xfrm>
            <a:off x="380880" y="7632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гулирующие доходы бюджета Новопоселеновского сельсовета Курского 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то доходы от федеральных и региональных налогов и иных платеж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 которым устанавливаются нормативы отчислений в процентах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естный бюджет на очередной финансовый го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а также на долговременной осно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406440" y="2019240"/>
            <a:ext cx="5537160" cy="800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доходы физически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1"/>
          <p:cNvSpPr/>
          <p:nvPr/>
        </p:nvSpPr>
        <p:spPr>
          <a:xfrm>
            <a:off x="2362320" y="3276720"/>
            <a:ext cx="518148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имущество физически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1"/>
          <p:cNvSpPr/>
          <p:nvPr/>
        </p:nvSpPr>
        <p:spPr>
          <a:xfrm>
            <a:off x="3505320" y="4572000"/>
            <a:ext cx="533376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й н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1"/>
          <p:cNvSpPr/>
          <p:nvPr/>
        </p:nvSpPr>
        <p:spPr>
          <a:xfrm>
            <a:off x="3352680" y="5803920"/>
            <a:ext cx="518184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сельскохозяйственный н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2070-4AFD-47E0-B183-AE33005C4AE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1"/>
          <p:cNvSpPr/>
          <p:nvPr/>
        </p:nvSpPr>
        <p:spPr>
          <a:xfrm>
            <a:off x="5079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лассификация доходов по источнику поступления, </a:t>
            </a:r>
            <a:br>
              <a:rPr sz="2400"/>
            </a:br>
            <a:r>
              <a:rPr b="1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1"/>
          <p:cNvSpPr/>
          <p:nvPr/>
        </p:nvSpPr>
        <p:spPr>
          <a:xfrm>
            <a:off x="457200" y="1706400"/>
            <a:ext cx="8229600" cy="13716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логовые доходы –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эт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от предусмотренных законодательств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огах и сборах федеральных налогов и сборов, в том числе от налог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отренных специальными налоговыми режимами, региональных налог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х налогов и сборов, а также пеней и штрафов по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1"/>
          <p:cNvSpPr/>
          <p:nvPr/>
        </p:nvSpPr>
        <p:spPr>
          <a:xfrm>
            <a:off x="457200" y="3200400"/>
            <a:ext cx="8229600" cy="121932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еналоговые доходы 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ох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использования и продажи имуществ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х участков, платежи в виде штрафов и санк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а за негативное воздействие на окружающую сре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1"/>
          <p:cNvSpPr/>
          <p:nvPr/>
        </p:nvSpPr>
        <p:spPr>
          <a:xfrm>
            <a:off x="546120" y="4800600"/>
            <a:ext cx="8229600" cy="13716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езвозмездные поступления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 в бюд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звозмездной и безвозвратной основе из областного бюдже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перечисления от физических и юридически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оме налоговых и неналоговых доходов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)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0C5E-9BD3-4DD9-997D-7555806D5A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0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7"/>
          <p:cNvSpPr/>
          <p:nvPr/>
        </p:nvSpPr>
        <p:spPr>
          <a:xfrm>
            <a:off x="228600" y="22860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поселеновский сельсовет Курского района Курской области – восемь объединенных общей территорией сельских населенных пункта –д. 1 – е Цветово, д. Александровка, д. Березка, п. Заповедный, д. Кукевка, д. Новопоселеновка, д. Екатериновка, д. Селиховы Дворы</a:t>
            </a: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876920" y="365760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1"/>
          <p:cNvSpPr/>
          <p:nvPr/>
        </p:nvSpPr>
        <p:spPr>
          <a:xfrm>
            <a:off x="495360" y="2819520"/>
            <a:ext cx="8229600" cy="3733560"/>
          </a:xfrm>
          <a:prstGeom prst="flowChartPunchedTape">
            <a:avLst/>
          </a:prstGeom>
          <a:solidFill>
            <a:srgbClr val="93a2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Новопоселеновского сельсовета Курского района Курской области составляет 73.14 кв. кило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642B-ABC2-4BC4-83BD-0006BE2CD2C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1"/>
          <p:cNvSpPr/>
          <p:nvPr/>
        </p:nvSpPr>
        <p:spPr>
          <a:xfrm>
            <a:off x="1447920" y="0"/>
            <a:ext cx="7010280" cy="13716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овопоселеновского сель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урского района К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8" descr="очки"/>
          <p:cNvPicPr/>
          <p:nvPr/>
        </p:nvPicPr>
        <p:blipFill>
          <a:blip r:embed="rId2"/>
          <a:stretch/>
        </p:blipFill>
        <p:spPr>
          <a:xfrm>
            <a:off x="0" y="1676520"/>
            <a:ext cx="3733920" cy="2603520"/>
          </a:xfrm>
          <a:prstGeom prst="rect">
            <a:avLst/>
          </a:prstGeom>
          <a:ln w="0">
            <a:noFill/>
          </a:ln>
        </p:spPr>
      </p:pic>
      <p:sp>
        <p:nvSpPr>
          <p:cNvPr id="562" name="AutoShape 11"/>
          <p:cNvSpPr/>
          <p:nvPr/>
        </p:nvSpPr>
        <p:spPr>
          <a:xfrm>
            <a:off x="152280" y="3962520"/>
            <a:ext cx="8839440" cy="26668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 бюджет Новопоселеновского сельсовета поступают доходы от упла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лога на доходы физических лиц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диного сельскохозяйственного налог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лога на имущество физических лиц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земельного налога, а также пени и штрафы по 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9"/>
          <p:cNvSpPr/>
          <p:nvPr/>
        </p:nvSpPr>
        <p:spPr>
          <a:xfrm>
            <a:off x="5867280" y="1447920"/>
            <a:ext cx="914400" cy="2514600"/>
          </a:xfrm>
          <a:prstGeom prst="downArrow">
            <a:avLst>
              <a:gd name="adj1" fmla="val 50000"/>
              <a:gd name="adj2" fmla="val 35419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22DC-D315-4552-B0A4-778233E44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1"/>
          <p:cNvSpPr/>
          <p:nvPr/>
        </p:nvSpPr>
        <p:spPr>
          <a:xfrm>
            <a:off x="50760" y="3581280"/>
            <a:ext cx="8839080" cy="3124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Доходы от уплаты налога на доходы физических лиц: 2023 г. – 2,0%, 2024 г.- </a:t>
            </a:r>
            <a:r>
              <a:rPr b="0" lang="en-US" sz="1400" spc="-1" strike="noStrike">
                <a:solidFill>
                  <a:srgbClr val="564b3c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,0%, 2025 г. – 2,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Единый сельскохозяйственный налог: 2023 г. – 30,0%, 2024 г. – 30,0 %, 2025 г. – 30,0 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3. Налог на имущество физических лиц: 2023 г. – 100%, 2024 г.- 100%, 2025 г. – 100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4. Земельный налог: 2023 г. – 100%, 2024 г.- 100%, 2025 г. – 100 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1"/>
          <p:cNvSpPr/>
          <p:nvPr/>
        </p:nvSpPr>
        <p:spPr>
          <a:xfrm>
            <a:off x="1841400" y="0"/>
            <a:ext cx="6477120" cy="13716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ОРМАТИВЫ ЗАЧИСЛ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ЛОГОВЫХ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 БЮДЖЕТ НОВОПОСЕЛЕНОВ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ЕЛЬ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9"/>
          <p:cNvSpPr/>
          <p:nvPr/>
        </p:nvSpPr>
        <p:spPr>
          <a:xfrm>
            <a:off x="5867280" y="1447920"/>
            <a:ext cx="9144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9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1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3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Object 22" descr=""/>
          <p:cNvPicPr/>
          <p:nvPr/>
        </p:nvPicPr>
        <p:blipFill>
          <a:blip r:embed="rId2"/>
          <a:stretch/>
        </p:blipFill>
        <p:spPr>
          <a:xfrm>
            <a:off x="-533520" y="942840"/>
            <a:ext cx="461016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3A74-E8FE-41C9-A937-798474A497F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1"/>
          <p:cNvSpPr/>
          <p:nvPr/>
        </p:nvSpPr>
        <p:spPr>
          <a:xfrm>
            <a:off x="1828800" y="304920"/>
            <a:ext cx="5867280" cy="99036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ЕЗВОЗМЕЗДНЫЕ ПОСТУПЛЕНИ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1"/>
          <p:cNvSpPr/>
          <p:nvPr/>
        </p:nvSpPr>
        <p:spPr>
          <a:xfrm>
            <a:off x="380880" y="198108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тации</a:t>
            </a: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едоставляю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ез определ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онкретной цели е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спользования</a:t>
            </a: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"/>
          <p:cNvSpPr/>
          <p:nvPr/>
        </p:nvSpPr>
        <p:spPr>
          <a:xfrm>
            <a:off x="3352680" y="20700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уб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едоставляю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 финансиро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«переданных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лномоч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1"/>
          <p:cNvSpPr/>
          <p:nvPr/>
        </p:nvSpPr>
        <p:spPr>
          <a:xfrm>
            <a:off x="6261120" y="1954080"/>
            <a:ext cx="2666880" cy="297180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2971800"/>
              <a:gd name="textAreaBottom" fmla="*/ 2841840 h 2971800"/>
            </a:gdLst>
            <a:ahLst/>
            <a:rect l="textAreaLeft" t="textAreaTop" r="textAreaRight" b="textAreaBottom"/>
            <a:pathLst>
              <a:path w="21600" h="24069">
                <a:moveTo>
                  <a:pt x="3600" y="0"/>
                </a:moveTo>
                <a:arcTo wR="3600" hR="3600" stAng="16200000" swAng="-5400000"/>
                <a:lnTo>
                  <a:pt x="0" y="20469"/>
                </a:lnTo>
                <a:arcTo wR="3600" hR="3600" stAng="10800000" swAng="-5400000"/>
                <a:lnTo>
                  <a:pt x="18000" y="240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убсидии</a:t>
            </a: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едоставляют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 услов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лев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офинансиро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ходов други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ов</a:t>
            </a: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9"/>
          <p:cNvSpPr/>
          <p:nvPr/>
        </p:nvSpPr>
        <p:spPr>
          <a:xfrm>
            <a:off x="4305240" y="14479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9"/>
          <p:cNvSpPr/>
          <p:nvPr/>
        </p:nvSpPr>
        <p:spPr>
          <a:xfrm>
            <a:off x="1828800" y="1496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29"/>
          <p:cNvSpPr/>
          <p:nvPr/>
        </p:nvSpPr>
        <p:spPr>
          <a:xfrm>
            <a:off x="6794640" y="1477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3E3E-418F-4D59-9637-5139D6D7FF7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1"/>
          <p:cNvSpPr/>
          <p:nvPr/>
        </p:nvSpPr>
        <p:spPr>
          <a:xfrm>
            <a:off x="635040" y="457200"/>
            <a:ext cx="83818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сточники финансирования дефицита бюдже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>
            <a:off x="2666880" y="3276720"/>
            <a:ext cx="3733920" cy="19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ые сред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м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у бюдже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системы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звра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ой основ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1"/>
          <p:cNvSpPr/>
          <p:nvPr/>
        </p:nvSpPr>
        <p:spPr>
          <a:xfrm>
            <a:off x="6019920" y="2895480"/>
            <a:ext cx="2971800" cy="2590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ем в денежной форм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ной организ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ю на услов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тности с выпл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емщиком проц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льзование зай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1"/>
          <p:cNvSpPr/>
          <p:nvPr/>
        </p:nvSpPr>
        <p:spPr>
          <a:xfrm>
            <a:off x="304920" y="2895480"/>
            <a:ext cx="2743200" cy="26672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ые бума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щ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и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29"/>
          <p:cNvSpPr/>
          <p:nvPr/>
        </p:nvSpPr>
        <p:spPr>
          <a:xfrm>
            <a:off x="4343400" y="2895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9"/>
          <p:cNvSpPr/>
          <p:nvPr/>
        </p:nvSpPr>
        <p:spPr>
          <a:xfrm>
            <a:off x="1371600" y="26668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9"/>
          <p:cNvSpPr/>
          <p:nvPr/>
        </p:nvSpPr>
        <p:spPr>
          <a:xfrm>
            <a:off x="7391520" y="25909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1"/>
          <p:cNvSpPr/>
          <p:nvPr/>
        </p:nvSpPr>
        <p:spPr>
          <a:xfrm>
            <a:off x="304920" y="2133720"/>
            <a:ext cx="259056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ые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1"/>
          <p:cNvSpPr/>
          <p:nvPr/>
        </p:nvSpPr>
        <p:spPr>
          <a:xfrm>
            <a:off x="3048120" y="2133720"/>
            <a:ext cx="2971800" cy="99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кред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других бюдж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системы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1"/>
          <p:cNvSpPr/>
          <p:nvPr/>
        </p:nvSpPr>
        <p:spPr>
          <a:xfrm>
            <a:off x="6172200" y="213372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ы креди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1"/>
          <p:cNvSpPr/>
          <p:nvPr/>
        </p:nvSpPr>
        <p:spPr>
          <a:xfrm>
            <a:off x="304920" y="5791320"/>
            <a:ext cx="86868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 2023 году и на плановый период 2024-2025 г.г. бюджет Новопоселеновского сель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урского района Курской области планируется сбалансированный (без дефицита), поэт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сточники финансирования дефицита бюджета не планируются</a:t>
            </a: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CD5E-D54E-40AA-8142-EC0A2A8D817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152280" y="6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1"/>
          <p:cNvSpPr/>
          <p:nvPr/>
        </p:nvSpPr>
        <p:spPr>
          <a:xfrm>
            <a:off x="380880" y="2286000"/>
            <a:ext cx="8229600" cy="1981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й дол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бязатель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ющие из муниципальных займов (заимствований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ых на себя муниципальным образов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й (поручительств), а также принятые на себ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м образованием обязательства третьих 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9"/>
          <p:cNvSpPr/>
          <p:nvPr/>
        </p:nvSpPr>
        <p:spPr>
          <a:xfrm>
            <a:off x="4114800" y="1523880"/>
            <a:ext cx="457200" cy="762120"/>
          </a:xfrm>
          <a:prstGeom prst="downArrow">
            <a:avLst>
              <a:gd name="adj1" fmla="val 50000"/>
              <a:gd name="adj2" fmla="val 25004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1"/>
          <p:cNvSpPr/>
          <p:nvPr/>
        </p:nvSpPr>
        <p:spPr>
          <a:xfrm>
            <a:off x="419040" y="609480"/>
            <a:ext cx="83822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ниципальный долг Новопоселеновского сельсове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23"/>
          <p:cNvSpPr/>
          <p:nvPr/>
        </p:nvSpPr>
        <p:spPr>
          <a:xfrm>
            <a:off x="1752480" y="4495680"/>
            <a:ext cx="5943600" cy="22100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!!!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ый объем муниципального дол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лжен превышать утвержденный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ой объем доходов местного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учета утвержденного объема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й и (или) поступлений налог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ов по дополнительным нормативам отчисл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1"/>
          <p:cNvSpPr/>
          <p:nvPr/>
        </p:nvSpPr>
        <p:spPr>
          <a:xfrm>
            <a:off x="1066680" y="380880"/>
            <a:ext cx="7772400" cy="838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едельный объем и верхний пред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ниципального долга Новопоселеновского сель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2895480" y="1663560"/>
            <a:ext cx="396252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ерхний пред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ниципально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1"/>
          <p:cNvSpPr/>
          <p:nvPr/>
        </p:nvSpPr>
        <p:spPr>
          <a:xfrm>
            <a:off x="660240" y="30481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2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1"/>
          <p:cNvSpPr/>
          <p:nvPr/>
        </p:nvSpPr>
        <p:spPr>
          <a:xfrm>
            <a:off x="4000680" y="3048120"/>
            <a:ext cx="121896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2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1"/>
          <p:cNvSpPr/>
          <p:nvPr/>
        </p:nvSpPr>
        <p:spPr>
          <a:xfrm>
            <a:off x="7505640" y="3048120"/>
            <a:ext cx="129564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2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1"/>
          <p:cNvSpPr/>
          <p:nvPr/>
        </p:nvSpPr>
        <p:spPr>
          <a:xfrm>
            <a:off x="400068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1"/>
          <p:cNvSpPr/>
          <p:nvPr/>
        </p:nvSpPr>
        <p:spPr>
          <a:xfrm>
            <a:off x="58428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1"/>
          <p:cNvSpPr/>
          <p:nvPr/>
        </p:nvSpPr>
        <p:spPr>
          <a:xfrm>
            <a:off x="7518240" y="410220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7"/>
          <p:cNvSpPr/>
          <p:nvPr/>
        </p:nvSpPr>
        <p:spPr>
          <a:xfrm rot="5400000">
            <a:off x="1174320" y="3600360"/>
            <a:ext cx="3430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7"/>
          <p:cNvSpPr/>
          <p:nvPr/>
        </p:nvSpPr>
        <p:spPr>
          <a:xfrm rot="5400000">
            <a:off x="4514760" y="3600360"/>
            <a:ext cx="3430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37"/>
          <p:cNvSpPr/>
          <p:nvPr/>
        </p:nvSpPr>
        <p:spPr>
          <a:xfrm rot="5400000">
            <a:off x="8070480" y="3600360"/>
            <a:ext cx="3430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1981080" y="5334120"/>
            <a:ext cx="6019920" cy="12952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4 году и на плановый период 2025-2026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заемных средств в бюдж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поселеновского сельсовета не планир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1752480" y="4876920"/>
          <a:ext cx="5562720" cy="157644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369F-F686-4720-B53A-8F819A33A17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1"/>
          <p:cNvSpPr/>
          <p:nvPr/>
        </p:nvSpPr>
        <p:spPr>
          <a:xfrm>
            <a:off x="228600" y="1752480"/>
            <a:ext cx="4343400" cy="281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мпы ро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да заработной пла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иков организ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поселеновского сельсов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кого район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иод 2024-2026 г.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0"/>
          <p:cNvSpPr/>
          <p:nvPr/>
        </p:nvSpPr>
        <p:spPr>
          <a:xfrm>
            <a:off x="5410080" y="1828800"/>
            <a:ext cx="3505320" cy="1905120"/>
          </a:xfrm>
          <a:prstGeom prst="wedgeRoundRectCallout">
            <a:avLst>
              <a:gd name="adj1" fmla="val -74138"/>
              <a:gd name="adj2" fmla="val 67750"/>
              <a:gd name="adj3" fmla="val 1666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для прогнозирования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юджет Новопоселеновского сельсовета Курского района от уплаты налога на доходы физически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7" name=""/>
          <p:cNvGraphicFramePr/>
          <p:nvPr/>
        </p:nvGraphicFramePr>
        <p:xfrm>
          <a:off x="1828800" y="4952880"/>
          <a:ext cx="5562720" cy="157644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AFB3-DE34-4944-9210-D32953EB3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1"/>
          <p:cNvSpPr/>
          <p:nvPr/>
        </p:nvSpPr>
        <p:spPr>
          <a:xfrm>
            <a:off x="228600" y="1752480"/>
            <a:ext cx="4343400" cy="281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Индексы-дефлято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оптовых цен продук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</a:rPr>
              <a:t>сельского хозяй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рганизац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овопоселеновского сельсов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урского райо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период 2024-2026 г.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3"/>
          <p:cNvSpPr/>
          <p:nvPr/>
        </p:nvSpPr>
        <p:spPr>
          <a:xfrm>
            <a:off x="5410080" y="1752480"/>
            <a:ext cx="3505320" cy="1905120"/>
          </a:xfrm>
          <a:prstGeom prst="wedgeRoundRectCallout">
            <a:avLst>
              <a:gd name="adj1" fmla="val -74138"/>
              <a:gd name="adj2" fmla="val 67750"/>
              <a:gd name="adj3" fmla="val 16667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яются для прогнозирования доходов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латы  единого сельскохозяйственного на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бюджет Новопоселеновского сельсовета Ку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CA69-0C40-4C79-BDDB-B5B5AF1FB91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1"/>
          <p:cNvSpPr/>
          <p:nvPr/>
        </p:nvSpPr>
        <p:spPr>
          <a:xfrm>
            <a:off x="609480" y="228600"/>
            <a:ext cx="8153640" cy="1143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новные параметры проекта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овопоселеновского сельсовета Курского район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 2024 год и плановый период 2025 и 2026 г.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11"/>
          <p:cNvSpPr/>
          <p:nvPr/>
        </p:nvSpPr>
        <p:spPr>
          <a:xfrm>
            <a:off x="304920" y="2057400"/>
            <a:ext cx="2361960" cy="129528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2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баланс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3670200" y="2247840"/>
            <a:ext cx="1981440" cy="129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7 551 450,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. </a:t>
            </a: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1"/>
          <p:cNvSpPr/>
          <p:nvPr/>
        </p:nvSpPr>
        <p:spPr>
          <a:xfrm>
            <a:off x="228600" y="3898800"/>
            <a:ext cx="2438280" cy="11304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2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баланс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1"/>
          <p:cNvSpPr/>
          <p:nvPr/>
        </p:nvSpPr>
        <p:spPr>
          <a:xfrm>
            <a:off x="304920" y="56386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2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балансир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1"/>
          <p:cNvSpPr/>
          <p:nvPr/>
        </p:nvSpPr>
        <p:spPr>
          <a:xfrm>
            <a:off x="6718320" y="2247840"/>
            <a:ext cx="1981080" cy="129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020 332 руб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20"/>
          <p:cNvSpPr/>
          <p:nvPr/>
        </p:nvSpPr>
        <p:spPr>
          <a:xfrm>
            <a:off x="5829480" y="2666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21"/>
          <p:cNvSpPr/>
          <p:nvPr/>
        </p:nvSpPr>
        <p:spPr>
          <a:xfrm>
            <a:off x="5867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1"/>
          <p:cNvSpPr/>
          <p:nvPr/>
        </p:nvSpPr>
        <p:spPr>
          <a:xfrm>
            <a:off x="3619440" y="3816360"/>
            <a:ext cx="1981440" cy="1295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907 656 руб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1"/>
          <p:cNvSpPr/>
          <p:nvPr/>
        </p:nvSpPr>
        <p:spPr>
          <a:xfrm>
            <a:off x="6794640" y="3803760"/>
            <a:ext cx="1981080" cy="1295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907 656 руб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4"/>
          <p:cNvSpPr/>
          <p:nvPr/>
        </p:nvSpPr>
        <p:spPr>
          <a:xfrm>
            <a:off x="5829480" y="42544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5"/>
          <p:cNvSpPr/>
          <p:nvPr/>
        </p:nvSpPr>
        <p:spPr>
          <a:xfrm>
            <a:off x="5829480" y="4724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581280" y="5410080"/>
            <a:ext cx="1981440" cy="129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170 145руб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6794640" y="5486400"/>
            <a:ext cx="1904760" cy="1295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с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5 170 145руб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8"/>
          <p:cNvSpPr/>
          <p:nvPr/>
        </p:nvSpPr>
        <p:spPr>
          <a:xfrm>
            <a:off x="5829480" y="5943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9"/>
          <p:cNvSpPr/>
          <p:nvPr/>
        </p:nvSpPr>
        <p:spPr>
          <a:xfrm>
            <a:off x="5829480" y="6388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7"/>
          <p:cNvSpPr/>
          <p:nvPr/>
        </p:nvSpPr>
        <p:spPr>
          <a:xfrm>
            <a:off x="2666880" y="2666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37"/>
          <p:cNvSpPr/>
          <p:nvPr/>
        </p:nvSpPr>
        <p:spPr>
          <a:xfrm>
            <a:off x="2819520" y="42544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37"/>
          <p:cNvSpPr/>
          <p:nvPr/>
        </p:nvSpPr>
        <p:spPr>
          <a:xfrm>
            <a:off x="2819520" y="6095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695760" y="2247840"/>
            <a:ext cx="1981080" cy="129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020 332руб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C2AF-C924-4BF5-8D52-F6AC1EEF2C8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672" name="Object 58" descr=""/>
          <p:cNvPicPr/>
          <p:nvPr/>
        </p:nvPicPr>
        <p:blipFill>
          <a:blip r:embed="rId1"/>
          <a:stretch/>
        </p:blipFill>
        <p:spPr>
          <a:xfrm>
            <a:off x="619200" y="1447920"/>
            <a:ext cx="8524800" cy="50133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35" descr="фон голубой с переходом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60"/>
          <p:cNvSpPr/>
          <p:nvPr/>
        </p:nvSpPr>
        <p:spPr>
          <a:xfrm>
            <a:off x="380880" y="152280"/>
            <a:ext cx="82296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ходы бюджета</a:t>
            </a:r>
            <a:br>
              <a:rPr sz="1800"/>
            </a:br>
            <a:r>
              <a:rPr b="1" i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овопоселеновского сельсовета Курского района Курской обла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 2024 – 2026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62"/>
          <p:cNvSpPr/>
          <p:nvPr/>
        </p:nvSpPr>
        <p:spPr>
          <a:xfrm>
            <a:off x="7315200" y="22860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63"/>
          <p:cNvSpPr/>
          <p:nvPr/>
        </p:nvSpPr>
        <p:spPr>
          <a:xfrm>
            <a:off x="7315200" y="358128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64"/>
          <p:cNvSpPr/>
          <p:nvPr/>
        </p:nvSpPr>
        <p:spPr>
          <a:xfrm>
            <a:off x="7315200" y="51055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бюджет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65"/>
          <p:cNvSpPr/>
          <p:nvPr/>
        </p:nvSpPr>
        <p:spPr>
          <a:xfrm>
            <a:off x="685800" y="1447920"/>
            <a:ext cx="205740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дохо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х л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66"/>
          <p:cNvSpPr/>
          <p:nvPr/>
        </p:nvSpPr>
        <p:spPr>
          <a:xfrm>
            <a:off x="762120" y="285768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имущ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х л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9"/>
          <p:cNvSpPr/>
          <p:nvPr/>
        </p:nvSpPr>
        <p:spPr>
          <a:xfrm flipH="1" flipV="1">
            <a:off x="6019920" y="1066680"/>
            <a:ext cx="1295280" cy="1524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00"/>
          <p:cNvSpPr/>
          <p:nvPr/>
        </p:nvSpPr>
        <p:spPr>
          <a:xfrm flipH="1" flipV="1">
            <a:off x="5714640" y="1066320"/>
            <a:ext cx="1600200" cy="449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01"/>
          <p:cNvSpPr/>
          <p:nvPr/>
        </p:nvSpPr>
        <p:spPr>
          <a:xfrm flipH="1" flipV="1">
            <a:off x="5867280" y="1066680"/>
            <a:ext cx="144792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66"/>
          <p:cNvSpPr/>
          <p:nvPr/>
        </p:nvSpPr>
        <p:spPr>
          <a:xfrm>
            <a:off x="762120" y="424188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й нал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5"/>
          <p:cNvSpPr/>
          <p:nvPr/>
        </p:nvSpPr>
        <p:spPr>
          <a:xfrm flipV="1">
            <a:off x="2743200" y="1066680"/>
            <a:ext cx="1676520" cy="3556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6"/>
          <p:cNvSpPr/>
          <p:nvPr/>
        </p:nvSpPr>
        <p:spPr>
          <a:xfrm flipV="1">
            <a:off x="2743200" y="1066320"/>
            <a:ext cx="1333440" cy="184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7"/>
          <p:cNvSpPr/>
          <p:nvPr/>
        </p:nvSpPr>
        <p:spPr>
          <a:xfrm flipV="1">
            <a:off x="2743200" y="1066680"/>
            <a:ext cx="1143000" cy="64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66"/>
          <p:cNvSpPr/>
          <p:nvPr/>
        </p:nvSpPr>
        <p:spPr>
          <a:xfrm>
            <a:off x="838080" y="5587920"/>
            <a:ext cx="1981440" cy="584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5"/>
          <p:cNvSpPr/>
          <p:nvPr/>
        </p:nvSpPr>
        <p:spPr>
          <a:xfrm flipV="1">
            <a:off x="2819520" y="1066320"/>
            <a:ext cx="1676160" cy="481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63"/>
          <p:cNvSpPr/>
          <p:nvPr/>
        </p:nvSpPr>
        <p:spPr>
          <a:xfrm>
            <a:off x="4762440" y="590544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00"/>
          <p:cNvSpPr/>
          <p:nvPr/>
        </p:nvSpPr>
        <p:spPr>
          <a:xfrm flipH="1" flipV="1">
            <a:off x="5409720" y="1066320"/>
            <a:ext cx="304920" cy="4800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D139-F280-4E2A-B474-0B8FD13BD63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Line 11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152280" y="2209680"/>
            <a:ext cx="8839440" cy="41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важаемые жители Новопоселеновского сельсовета Курского района Курской области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– это упрощенная версия бюджетного документа, которая использует доступные форматы, чтобы облегчить для граждан понимание бюджета, объяснить им планы и действия Администрации Новопоселеновского сельсовета Курского района Курской области и показать формы их возможного взаимодействия по вопросам расходования бюджетных средств. Надеемся, что «Бюджет для граждан» Новопоселеновского сельсовета Курского района Курской области станет доступным источником для повышения финансовой грамотности жителей района и активизации общественного контроля за муниципальными расходами. Рассчитываем, что наша совместная работа будет способствовать развитию прозрачности и открытости бюджета и бюджетного процесса для граждан</a:t>
            </a: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>
            <a:off x="762120" y="533520"/>
            <a:ext cx="76197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CC8B-5997-4C25-B7C0-654759BB22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693" name="Object 58" descr=""/>
          <p:cNvPicPr/>
          <p:nvPr/>
        </p:nvPicPr>
        <p:blipFill>
          <a:blip r:embed="rId1"/>
          <a:stretch/>
        </p:blipFill>
        <p:spPr>
          <a:xfrm>
            <a:off x="619200" y="1447920"/>
            <a:ext cx="8524800" cy="50133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5" descr="фон голубой с переходом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AutoShape 60"/>
          <p:cNvSpPr/>
          <p:nvPr/>
        </p:nvSpPr>
        <p:spPr>
          <a:xfrm>
            <a:off x="380880" y="152280"/>
            <a:ext cx="82296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64b3c"/>
                </a:solidFill>
                <a:latin typeface="Times New Roman"/>
              </a:rPr>
              <a:t>ДОХОДЫ БЮДЖЕТА </a:t>
            </a:r>
            <a:br>
              <a:rPr sz="3200"/>
            </a:br>
            <a:r>
              <a:rPr b="1" i="1" lang="ru-RU" sz="2400" spc="-1" strike="noStrike">
                <a:solidFill>
                  <a:srgbClr val="564b3c"/>
                </a:solidFill>
                <a:latin typeface="Times New Roman"/>
              </a:rPr>
              <a:t>НОВОПОСЕЛЕНОВСКОГО СЕЛЬСОВЕТА НА 202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61"/>
          <p:cNvSpPr/>
          <p:nvPr/>
        </p:nvSpPr>
        <p:spPr>
          <a:xfrm>
            <a:off x="7391520" y="118728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62"/>
          <p:cNvSpPr/>
          <p:nvPr/>
        </p:nvSpPr>
        <p:spPr>
          <a:xfrm>
            <a:off x="7315200" y="22860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Дот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63"/>
          <p:cNvSpPr/>
          <p:nvPr/>
        </p:nvSpPr>
        <p:spPr>
          <a:xfrm>
            <a:off x="7315200" y="35812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уб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64"/>
          <p:cNvSpPr/>
          <p:nvPr/>
        </p:nvSpPr>
        <p:spPr>
          <a:xfrm>
            <a:off x="7315200" y="51055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Иные 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трансфе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65"/>
          <p:cNvSpPr/>
          <p:nvPr/>
        </p:nvSpPr>
        <p:spPr>
          <a:xfrm>
            <a:off x="685800" y="1447920"/>
            <a:ext cx="205740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алог на дох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физических 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66"/>
          <p:cNvSpPr/>
          <p:nvPr/>
        </p:nvSpPr>
        <p:spPr>
          <a:xfrm>
            <a:off x="762120" y="285768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алог на имущ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физически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99"/>
          <p:cNvSpPr/>
          <p:nvPr/>
        </p:nvSpPr>
        <p:spPr>
          <a:xfrm flipH="1" flipV="1">
            <a:off x="5689440" y="1117080"/>
            <a:ext cx="1625760" cy="1359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00"/>
          <p:cNvSpPr/>
          <p:nvPr/>
        </p:nvSpPr>
        <p:spPr>
          <a:xfrm flipH="1" flipV="1">
            <a:off x="5029200" y="1066320"/>
            <a:ext cx="2286000" cy="449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01"/>
          <p:cNvSpPr/>
          <p:nvPr/>
        </p:nvSpPr>
        <p:spPr>
          <a:xfrm flipH="1" flipV="1">
            <a:off x="5333760" y="1066680"/>
            <a:ext cx="198108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66"/>
          <p:cNvSpPr/>
          <p:nvPr/>
        </p:nvSpPr>
        <p:spPr>
          <a:xfrm>
            <a:off x="762120" y="424188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Земельный нал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5"/>
          <p:cNvSpPr/>
          <p:nvPr/>
        </p:nvSpPr>
        <p:spPr>
          <a:xfrm flipV="1">
            <a:off x="2819520" y="1117080"/>
            <a:ext cx="1600200" cy="364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6"/>
          <p:cNvSpPr/>
          <p:nvPr/>
        </p:nvSpPr>
        <p:spPr>
          <a:xfrm flipV="1">
            <a:off x="2743200" y="1117080"/>
            <a:ext cx="1447920" cy="202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7"/>
          <p:cNvSpPr/>
          <p:nvPr/>
        </p:nvSpPr>
        <p:spPr>
          <a:xfrm flipV="1">
            <a:off x="2743200" y="1066680"/>
            <a:ext cx="1219320" cy="64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63"/>
          <p:cNvSpPr/>
          <p:nvPr/>
        </p:nvSpPr>
        <p:spPr>
          <a:xfrm>
            <a:off x="4114800" y="57150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убси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00"/>
          <p:cNvSpPr/>
          <p:nvPr/>
        </p:nvSpPr>
        <p:spPr>
          <a:xfrm flipH="1" flipV="1">
            <a:off x="4723920" y="1066680"/>
            <a:ext cx="304920" cy="464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6"/>
          <p:cNvSpPr/>
          <p:nvPr/>
        </p:nvSpPr>
        <p:spPr>
          <a:xfrm>
            <a:off x="1587600" y="5486400"/>
            <a:ext cx="1981080" cy="762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Еди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сельскохозяйственный н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5"/>
          <p:cNvSpPr/>
          <p:nvPr/>
        </p:nvSpPr>
        <p:spPr>
          <a:xfrm flipV="1">
            <a:off x="3048120" y="1066320"/>
            <a:ext cx="1523880" cy="441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6BCF-E794-4415-859A-DAF99402B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457200" y="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Расходы бюджет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это выплачиваемые из бюджета денежные сред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направляемые на финансовое обеспечение задач и функ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государства и местного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13" descr="деньги (1)"/>
          <p:cNvPicPr/>
          <p:nvPr/>
        </p:nvPicPr>
        <p:blipFill>
          <a:blip r:embed="rId2"/>
          <a:stretch/>
        </p:blipFill>
        <p:spPr>
          <a:xfrm>
            <a:off x="533520" y="2971800"/>
            <a:ext cx="8183520" cy="3429000"/>
          </a:xfrm>
          <a:prstGeom prst="rect">
            <a:avLst/>
          </a:prstGeom>
          <a:ln w="0">
            <a:noFill/>
          </a:ln>
        </p:spPr>
      </p:pic>
      <p:sp>
        <p:nvSpPr>
          <p:cNvPr id="720" name="AutoShape 23"/>
          <p:cNvSpPr/>
          <p:nvPr/>
        </p:nvSpPr>
        <p:spPr>
          <a:xfrm>
            <a:off x="152280" y="4343400"/>
            <a:ext cx="2895840" cy="13716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Функциональ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3"/>
          <p:cNvSpPr/>
          <p:nvPr/>
        </p:nvSpPr>
        <p:spPr>
          <a:xfrm>
            <a:off x="3276720" y="4343400"/>
            <a:ext cx="2590560" cy="13716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едомствен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9"/>
          <p:cNvSpPr/>
          <p:nvPr/>
        </p:nvSpPr>
        <p:spPr>
          <a:xfrm>
            <a:off x="236232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9"/>
          <p:cNvSpPr/>
          <p:nvPr/>
        </p:nvSpPr>
        <p:spPr>
          <a:xfrm>
            <a:off x="434340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23"/>
          <p:cNvSpPr/>
          <p:nvPr/>
        </p:nvSpPr>
        <p:spPr>
          <a:xfrm>
            <a:off x="6095880" y="4343400"/>
            <a:ext cx="2819520" cy="13716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Экономическ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3"/>
          <p:cNvSpPr/>
          <p:nvPr/>
        </p:nvSpPr>
        <p:spPr>
          <a:xfrm>
            <a:off x="2057400" y="3200400"/>
            <a:ext cx="5181480" cy="6094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Классификация расход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29"/>
          <p:cNvSpPr/>
          <p:nvPr/>
        </p:nvSpPr>
        <p:spPr>
          <a:xfrm>
            <a:off x="6400800" y="38098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2BDB-AEE9-4774-AFD6-22A71126F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1"/>
          <p:cNvSpPr/>
          <p:nvPr/>
        </p:nvSpPr>
        <p:spPr>
          <a:xfrm>
            <a:off x="533520" y="228600"/>
            <a:ext cx="86104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ункциональная классификация расходов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овопоселеновского сельсовета Кур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14" descr="герб"/>
          <p:cNvPicPr/>
          <p:nvPr/>
        </p:nvPicPr>
        <p:blipFill>
          <a:blip r:embed="rId2"/>
          <a:stretch/>
        </p:blipFill>
        <p:spPr>
          <a:xfrm>
            <a:off x="152280" y="2819520"/>
            <a:ext cx="1752840" cy="1162080"/>
          </a:xfrm>
          <a:prstGeom prst="rect">
            <a:avLst/>
          </a:prstGeom>
          <a:ln w="0">
            <a:noFill/>
          </a:ln>
        </p:spPr>
      </p:pic>
      <p:sp>
        <p:nvSpPr>
          <p:cNvPr id="734" name="AutoShape 61"/>
          <p:cNvSpPr/>
          <p:nvPr/>
        </p:nvSpPr>
        <p:spPr>
          <a:xfrm>
            <a:off x="304920" y="411480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Общегосударственны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вопро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61"/>
          <p:cNvSpPr/>
          <p:nvPr/>
        </p:nvSpPr>
        <p:spPr>
          <a:xfrm>
            <a:off x="4114800" y="61722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Социальная полит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61"/>
          <p:cNvSpPr/>
          <p:nvPr/>
        </p:nvSpPr>
        <p:spPr>
          <a:xfrm>
            <a:off x="2133720" y="617220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Национальн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оборо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61"/>
          <p:cNvSpPr/>
          <p:nvPr/>
        </p:nvSpPr>
        <p:spPr>
          <a:xfrm>
            <a:off x="380880" y="61722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Культур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кинематограф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61"/>
          <p:cNvSpPr/>
          <p:nvPr/>
        </p:nvSpPr>
        <p:spPr>
          <a:xfrm>
            <a:off x="6553080" y="4114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Жилищно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коммунально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хозяй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3" descr="экономика"/>
          <p:cNvPicPr/>
          <p:nvPr/>
        </p:nvPicPr>
        <p:blipFill>
          <a:blip r:embed="rId3"/>
          <a:stretch/>
        </p:blipFill>
        <p:spPr>
          <a:xfrm>
            <a:off x="4038480" y="2895480"/>
            <a:ext cx="1447920" cy="10796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4" descr="камера"/>
          <p:cNvPicPr/>
          <p:nvPr/>
        </p:nvPicPr>
        <p:blipFill>
          <a:blip r:embed="rId4"/>
          <a:stretch/>
        </p:blipFill>
        <p:spPr>
          <a:xfrm>
            <a:off x="2057400" y="2895480"/>
            <a:ext cx="1752480" cy="9892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котельная"/>
          <p:cNvPicPr/>
          <p:nvPr/>
        </p:nvPicPr>
        <p:blipFill>
          <a:blip r:embed="rId5"/>
          <a:stretch/>
        </p:blipFill>
        <p:spPr>
          <a:xfrm>
            <a:off x="6477120" y="2895480"/>
            <a:ext cx="1523880" cy="10890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7" descr="культура"/>
          <p:cNvPicPr/>
          <p:nvPr/>
        </p:nvPicPr>
        <p:blipFill>
          <a:blip r:embed="rId6"/>
          <a:stretch/>
        </p:blipFill>
        <p:spPr>
          <a:xfrm>
            <a:off x="304920" y="4572000"/>
            <a:ext cx="1571400" cy="15559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8" descr="отлов"/>
          <p:cNvPicPr/>
          <p:nvPr/>
        </p:nvPicPr>
        <p:blipFill>
          <a:blip r:embed="rId7"/>
          <a:stretch/>
        </p:blipFill>
        <p:spPr>
          <a:xfrm>
            <a:off x="2057400" y="4648320"/>
            <a:ext cx="1752480" cy="129528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61"/>
          <p:cNvSpPr/>
          <p:nvPr/>
        </p:nvSpPr>
        <p:spPr>
          <a:xfrm>
            <a:off x="6629400" y="61722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Физкультура и 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31" descr="спортзал"/>
          <p:cNvPicPr/>
          <p:nvPr/>
        </p:nvPicPr>
        <p:blipFill>
          <a:blip r:embed="rId8"/>
          <a:stretch/>
        </p:blipFill>
        <p:spPr>
          <a:xfrm>
            <a:off x="6934320" y="4648320"/>
            <a:ext cx="1038240" cy="10922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4" descr="пенсионеры"/>
          <p:cNvPicPr/>
          <p:nvPr/>
        </p:nvPicPr>
        <p:blipFill>
          <a:blip r:embed="rId9"/>
          <a:stretch/>
        </p:blipFill>
        <p:spPr>
          <a:xfrm>
            <a:off x="4064040" y="4648320"/>
            <a:ext cx="1625400" cy="1218960"/>
          </a:xfrm>
          <a:prstGeom prst="rect">
            <a:avLst/>
          </a:prstGeom>
          <a:ln w="0">
            <a:noFill/>
          </a:ln>
        </p:spPr>
      </p:pic>
      <p:sp>
        <p:nvSpPr>
          <p:cNvPr id="747" name="AutoShape 61"/>
          <p:cNvSpPr/>
          <p:nvPr/>
        </p:nvSpPr>
        <p:spPr>
          <a:xfrm>
            <a:off x="4038480" y="4114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Национа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эконом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61"/>
          <p:cNvSpPr/>
          <p:nvPr/>
        </p:nvSpPr>
        <p:spPr>
          <a:xfrm>
            <a:off x="2057400" y="3962520"/>
            <a:ext cx="16002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Национа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безопасность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правоохранительн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Times New Roman"/>
              </a:rPr>
              <a:t>деятель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11"/>
          <p:cNvSpPr/>
          <p:nvPr/>
        </p:nvSpPr>
        <p:spPr>
          <a:xfrm>
            <a:off x="380880" y="304920"/>
            <a:ext cx="861084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едомственная классификация расходов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овопоселеновского сельсовета Кур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61"/>
          <p:cNvSpPr/>
          <p:nvPr/>
        </p:nvSpPr>
        <p:spPr>
          <a:xfrm>
            <a:off x="1066680" y="4343400"/>
            <a:ext cx="73152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Администрация Новопоселенов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Курского района Кур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70"/>
          <p:cNvSpPr/>
          <p:nvPr/>
        </p:nvSpPr>
        <p:spPr>
          <a:xfrm>
            <a:off x="609480" y="2590920"/>
            <a:ext cx="8229600" cy="990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Данная классификация непосредственно связана со структурой управления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на отображает группировку юридических лиц, получающих бюджетны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редства (это главные распорядители средств бюджет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50"/>
          <p:cNvSpPr/>
          <p:nvPr/>
        </p:nvSpPr>
        <p:spPr>
          <a:xfrm>
            <a:off x="419112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3C6A-5452-4CD0-A384-C8C60FD0AAB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11"/>
          <p:cNvSpPr/>
          <p:nvPr/>
        </p:nvSpPr>
        <p:spPr>
          <a:xfrm>
            <a:off x="685800" y="304920"/>
            <a:ext cx="86104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кономическая классификация расходов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овопоселеновского сельсовета Кур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70"/>
          <p:cNvSpPr/>
          <p:nvPr/>
        </p:nvSpPr>
        <p:spPr>
          <a:xfrm>
            <a:off x="533520" y="2819520"/>
            <a:ext cx="8229600" cy="3200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классификация показывает дел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ов государства на текущие и капитальны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на выплату заработной платы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атериальные затраты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обретение товаров и услу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A69F-26C9-47B2-A2E2-B6989D949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495360" y="457200"/>
            <a:ext cx="8458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Общегосударственные вопросы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11"/>
          <p:cNvSpPr/>
          <p:nvPr/>
        </p:nvSpPr>
        <p:spPr>
          <a:xfrm>
            <a:off x="3200400" y="2971800"/>
            <a:ext cx="2819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5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6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40644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7 553 489 </a:t>
            </a: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1"/>
          <p:cNvSpPr/>
          <p:nvPr/>
        </p:nvSpPr>
        <p:spPr>
          <a:xfrm>
            <a:off x="152280" y="4495680"/>
            <a:ext cx="883944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В разде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«Общегосударственные вопросы» включаются расходы на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функционирования Главы Новопоселеновского сельсовета Курского района, функцион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Администрации Новопоселеновского сельсовета Курского район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</a:rPr>
              <a:t>другие общегосударственные вопросы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3200400" y="380988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 665 076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67 к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1"/>
          <p:cNvSpPr/>
          <p:nvPr/>
        </p:nvSpPr>
        <p:spPr>
          <a:xfrm>
            <a:off x="6248520" y="304812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 517 685руб. 65 к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9"/>
          <p:cNvSpPr/>
          <p:nvPr/>
        </p:nvSpPr>
        <p:spPr>
          <a:xfrm>
            <a:off x="4267080" y="3429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29"/>
          <p:cNvSpPr/>
          <p:nvPr/>
        </p:nvSpPr>
        <p:spPr>
          <a:xfrm>
            <a:off x="708660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863F-ECD5-4B18-A73C-B4FC4B967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1"/>
          <p:cNvSpPr/>
          <p:nvPr/>
        </p:nvSpPr>
        <p:spPr>
          <a:xfrm>
            <a:off x="495360" y="49536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Национальная оборона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1"/>
          <p:cNvSpPr/>
          <p:nvPr/>
        </p:nvSpPr>
        <p:spPr>
          <a:xfrm>
            <a:off x="3352680" y="274320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5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6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1"/>
          <p:cNvSpPr/>
          <p:nvPr/>
        </p:nvSpPr>
        <p:spPr>
          <a:xfrm>
            <a:off x="762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337 274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11"/>
          <p:cNvSpPr/>
          <p:nvPr/>
        </p:nvSpPr>
        <p:spPr>
          <a:xfrm>
            <a:off x="380880" y="4191120"/>
            <a:ext cx="8458200" cy="2514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В раздел «Национальная оборона» включаются расходы на осуществление первичного во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учета на территориях, где отсутствуют военные комиссариа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3733920" y="35812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371 803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11"/>
          <p:cNvSpPr/>
          <p:nvPr/>
        </p:nvSpPr>
        <p:spPr>
          <a:xfrm>
            <a:off x="662940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406 918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29"/>
          <p:cNvSpPr/>
          <p:nvPr/>
        </p:nvSpPr>
        <p:spPr>
          <a:xfrm>
            <a:off x="44197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29"/>
          <p:cNvSpPr/>
          <p:nvPr/>
        </p:nvSpPr>
        <p:spPr>
          <a:xfrm>
            <a:off x="716292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C571-53FE-43DF-82A3-D0F0BDF8728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1"/>
          <p:cNvSpPr/>
          <p:nvPr/>
        </p:nvSpPr>
        <p:spPr>
          <a:xfrm>
            <a:off x="380880" y="304920"/>
            <a:ext cx="853452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здел расходов «Национальная безопасность 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авоохранительная деятельность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38088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1"/>
          <p:cNvSpPr/>
          <p:nvPr/>
        </p:nvSpPr>
        <p:spPr>
          <a:xfrm>
            <a:off x="3352680" y="304812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25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1"/>
          <p:cNvSpPr/>
          <p:nvPr/>
        </p:nvSpPr>
        <p:spPr>
          <a:xfrm>
            <a:off x="594360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026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1"/>
          <p:cNvSpPr/>
          <p:nvPr/>
        </p:nvSpPr>
        <p:spPr>
          <a:xfrm>
            <a:off x="685800" y="32767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40 0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29"/>
          <p:cNvSpPr/>
          <p:nvPr/>
        </p:nvSpPr>
        <p:spPr>
          <a:xfrm>
            <a:off x="152388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11"/>
          <p:cNvSpPr/>
          <p:nvPr/>
        </p:nvSpPr>
        <p:spPr>
          <a:xfrm>
            <a:off x="457200" y="4495680"/>
            <a:ext cx="8381880" cy="2133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 разде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«Национальная безопасность и правоохранительная деятельност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ключаются расходы бюджета Новопоселеновского сельсовета Курского района на закуп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оваров, работ и услуг в области гражданской обороны, защиты населения и террит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 чрезвычайных ситуаций, безопасности людей на водных объектах, пожарной безопасност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11"/>
          <p:cNvSpPr/>
          <p:nvPr/>
        </p:nvSpPr>
        <p:spPr>
          <a:xfrm>
            <a:off x="3733920" y="388620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40 0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6502320" y="3276720"/>
            <a:ext cx="1981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40 0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29"/>
          <p:cNvSpPr/>
          <p:nvPr/>
        </p:nvSpPr>
        <p:spPr>
          <a:xfrm>
            <a:off x="4419720" y="3505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29"/>
          <p:cNvSpPr/>
          <p:nvPr/>
        </p:nvSpPr>
        <p:spPr>
          <a:xfrm>
            <a:off x="716292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F8C8-D389-4825-A787-29B66DC280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380880" y="457200"/>
            <a:ext cx="853452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Национальная экономика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11"/>
          <p:cNvSpPr/>
          <p:nvPr/>
        </p:nvSpPr>
        <p:spPr>
          <a:xfrm>
            <a:off x="38088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3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11"/>
          <p:cNvSpPr/>
          <p:nvPr/>
        </p:nvSpPr>
        <p:spPr>
          <a:xfrm>
            <a:off x="3352680" y="304812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1"/>
          <p:cNvSpPr/>
          <p:nvPr/>
        </p:nvSpPr>
        <p:spPr>
          <a:xfrm>
            <a:off x="594360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5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1"/>
          <p:cNvSpPr/>
          <p:nvPr/>
        </p:nvSpPr>
        <p:spPr>
          <a:xfrm>
            <a:off x="673200" y="32767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772 631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29"/>
          <p:cNvSpPr/>
          <p:nvPr/>
        </p:nvSpPr>
        <p:spPr>
          <a:xfrm>
            <a:off x="152388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1"/>
          <p:cNvSpPr/>
          <p:nvPr/>
        </p:nvSpPr>
        <p:spPr>
          <a:xfrm>
            <a:off x="304920" y="4495680"/>
            <a:ext cx="8610480" cy="2133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В разд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«Национальная экономика» включаются расходы на мероприятия по внесению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государственный кадастр недвижимости сведений о границах муниципальных образ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и границах населенных пунктов, мероприятия в области энергосбережения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1"/>
          <p:cNvSpPr/>
          <p:nvPr/>
        </p:nvSpPr>
        <p:spPr>
          <a:xfrm>
            <a:off x="3733920" y="388620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0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1"/>
          <p:cNvSpPr/>
          <p:nvPr/>
        </p:nvSpPr>
        <p:spPr>
          <a:xfrm>
            <a:off x="6629400" y="32767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0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29"/>
          <p:cNvSpPr/>
          <p:nvPr/>
        </p:nvSpPr>
        <p:spPr>
          <a:xfrm>
            <a:off x="4419720" y="3505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29"/>
          <p:cNvSpPr/>
          <p:nvPr/>
        </p:nvSpPr>
        <p:spPr>
          <a:xfrm>
            <a:off x="716292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CA63-389B-4C7D-8850-F3BFD6C92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11"/>
          <p:cNvSpPr/>
          <p:nvPr/>
        </p:nvSpPr>
        <p:spPr>
          <a:xfrm>
            <a:off x="343080" y="457200"/>
            <a:ext cx="853416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Жилищно-коммунальное хозяйство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1"/>
          <p:cNvSpPr/>
          <p:nvPr/>
        </p:nvSpPr>
        <p:spPr>
          <a:xfrm>
            <a:off x="38088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1"/>
          <p:cNvSpPr/>
          <p:nvPr/>
        </p:nvSpPr>
        <p:spPr>
          <a:xfrm>
            <a:off x="3352680" y="304812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5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1"/>
          <p:cNvSpPr/>
          <p:nvPr/>
        </p:nvSpPr>
        <p:spPr>
          <a:xfrm>
            <a:off x="5943600" y="24382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6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>
            <a:off x="787320" y="3225960"/>
            <a:ext cx="1981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7 611 252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29"/>
          <p:cNvSpPr/>
          <p:nvPr/>
        </p:nvSpPr>
        <p:spPr>
          <a:xfrm>
            <a:off x="152388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1"/>
          <p:cNvSpPr/>
          <p:nvPr/>
        </p:nvSpPr>
        <p:spPr>
          <a:xfrm>
            <a:off x="380880" y="4495680"/>
            <a:ext cx="8458200" cy="2133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В разд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«Жилищно-коммунальное хозяйство» включаются расходы на мероприят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благоустройству территории населенных пунктов, содержанию мест захорон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создание условий для массового отдыха жителей поселения и организация об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мест массового отдыха населения, благоустройство общественной терри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по программе «Формирование соврем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564b3c"/>
                </a:solidFill>
                <a:latin typeface="Times New Roman"/>
              </a:rPr>
              <a:t>городской сре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11"/>
          <p:cNvSpPr/>
          <p:nvPr/>
        </p:nvSpPr>
        <p:spPr>
          <a:xfrm>
            <a:off x="3581280" y="3886200"/>
            <a:ext cx="22100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 161 694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00 к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11"/>
          <p:cNvSpPr/>
          <p:nvPr/>
        </p:nvSpPr>
        <p:spPr>
          <a:xfrm>
            <a:off x="6400800" y="326376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6 161 694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00 к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29"/>
          <p:cNvSpPr/>
          <p:nvPr/>
        </p:nvSpPr>
        <p:spPr>
          <a:xfrm>
            <a:off x="4419720" y="35053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29"/>
          <p:cNvSpPr/>
          <p:nvPr/>
        </p:nvSpPr>
        <p:spPr>
          <a:xfrm>
            <a:off x="7162920" y="2895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4902-AF3D-40C2-AF8C-DC13CECBC38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>
            <a:off x="609480" y="2133720"/>
            <a:ext cx="792504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и расходования денежных средст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ных для финансового обеспечения задач и функ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ого само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/>
          <p:cNvSpPr/>
          <p:nvPr/>
        </p:nvSpPr>
        <p:spPr>
          <a:xfrm>
            <a:off x="2209680" y="685800"/>
            <a:ext cx="5029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такое БЮДЖЕТ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6"/>
          <p:cNvSpPr/>
          <p:nvPr/>
        </p:nvSpPr>
        <p:spPr>
          <a:xfrm>
            <a:off x="304920" y="3352680"/>
            <a:ext cx="2971800" cy="3276720"/>
          </a:xfrm>
          <a:prstGeom prst="octagon">
            <a:avLst>
              <a:gd name="adj" fmla="val 2928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юджет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(нало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ежи и сбо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7"/>
          <p:cNvSpPr/>
          <p:nvPr/>
        </p:nvSpPr>
        <p:spPr>
          <a:xfrm>
            <a:off x="5867280" y="3352680"/>
            <a:ext cx="3048120" cy="3276720"/>
          </a:xfrm>
          <a:prstGeom prst="octagon">
            <a:avLst>
              <a:gd name="adj" fmla="val 29287"/>
            </a:avLst>
          </a:prstGeom>
          <a:solidFill>
            <a:srgbClr val="93a2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ачив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юджета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на содерж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х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, ЖК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ы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1" descr="0_image_2274_1"/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4172-A5F7-4735-A91D-1B36A7BB0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11"/>
          <p:cNvSpPr/>
          <p:nvPr/>
        </p:nvSpPr>
        <p:spPr>
          <a:xfrm>
            <a:off x="380880" y="45720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Культура, кинематография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1"/>
          <p:cNvSpPr/>
          <p:nvPr/>
        </p:nvSpPr>
        <p:spPr>
          <a:xfrm>
            <a:off x="3352680" y="274320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5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6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762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30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00 к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11"/>
          <p:cNvSpPr/>
          <p:nvPr/>
        </p:nvSpPr>
        <p:spPr>
          <a:xfrm>
            <a:off x="380880" y="4419720"/>
            <a:ext cx="8458200" cy="2209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В раздел «Культура» включаются расходы на выплату пенсий за выслугу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и доплату к пенсиям муниципальных служа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1"/>
          <p:cNvSpPr/>
          <p:nvPr/>
        </p:nvSpPr>
        <p:spPr>
          <a:xfrm>
            <a:off x="3683160" y="35812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30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0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11"/>
          <p:cNvSpPr/>
          <p:nvPr/>
        </p:nvSpPr>
        <p:spPr>
          <a:xfrm>
            <a:off x="6477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30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0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29"/>
          <p:cNvSpPr/>
          <p:nvPr/>
        </p:nvSpPr>
        <p:spPr>
          <a:xfrm>
            <a:off x="44197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29"/>
          <p:cNvSpPr/>
          <p:nvPr/>
        </p:nvSpPr>
        <p:spPr>
          <a:xfrm>
            <a:off x="716292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BB95-A979-405C-A95E-314BD4B1A0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11"/>
          <p:cNvSpPr/>
          <p:nvPr/>
        </p:nvSpPr>
        <p:spPr>
          <a:xfrm>
            <a:off x="380880" y="45720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Социальная политика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11"/>
          <p:cNvSpPr/>
          <p:nvPr/>
        </p:nvSpPr>
        <p:spPr>
          <a:xfrm>
            <a:off x="3352680" y="274320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5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6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11"/>
          <p:cNvSpPr/>
          <p:nvPr/>
        </p:nvSpPr>
        <p:spPr>
          <a:xfrm>
            <a:off x="762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55 686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11"/>
          <p:cNvSpPr/>
          <p:nvPr/>
        </p:nvSpPr>
        <p:spPr>
          <a:xfrm>
            <a:off x="380880" y="4419720"/>
            <a:ext cx="8458200" cy="2209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В раздел «Социальная политика» включаются расходы на выплату пенсий за выслугу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и доплату к пенсиям муниципальных служа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64b3c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11"/>
          <p:cNvSpPr/>
          <p:nvPr/>
        </p:nvSpPr>
        <p:spPr>
          <a:xfrm>
            <a:off x="3683160" y="35812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55 686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11"/>
          <p:cNvSpPr/>
          <p:nvPr/>
        </p:nvSpPr>
        <p:spPr>
          <a:xfrm>
            <a:off x="6477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255 686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29"/>
          <p:cNvSpPr/>
          <p:nvPr/>
        </p:nvSpPr>
        <p:spPr>
          <a:xfrm>
            <a:off x="44197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29"/>
          <p:cNvSpPr/>
          <p:nvPr/>
        </p:nvSpPr>
        <p:spPr>
          <a:xfrm>
            <a:off x="716292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AF5F-D980-4C22-8B27-C3FA2F42B0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11"/>
          <p:cNvSpPr/>
          <p:nvPr/>
        </p:nvSpPr>
        <p:spPr>
          <a:xfrm>
            <a:off x="457200" y="304920"/>
            <a:ext cx="8534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здел расходов «Физическая культура и спорт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11"/>
          <p:cNvSpPr/>
          <p:nvPr/>
        </p:nvSpPr>
        <p:spPr>
          <a:xfrm>
            <a:off x="3808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11"/>
          <p:cNvSpPr/>
          <p:nvPr/>
        </p:nvSpPr>
        <p:spPr>
          <a:xfrm>
            <a:off x="3352680" y="2743200"/>
            <a:ext cx="25909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5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11"/>
          <p:cNvSpPr/>
          <p:nvPr/>
        </p:nvSpPr>
        <p:spPr>
          <a:xfrm>
            <a:off x="5867280" y="2209680"/>
            <a:ext cx="29718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2026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762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5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29"/>
          <p:cNvSpPr/>
          <p:nvPr/>
        </p:nvSpPr>
        <p:spPr>
          <a:xfrm>
            <a:off x="152388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1"/>
          <p:cNvSpPr/>
          <p:nvPr/>
        </p:nvSpPr>
        <p:spPr>
          <a:xfrm>
            <a:off x="228600" y="4419720"/>
            <a:ext cx="8610480" cy="2209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В раздел «Физическая культура и спорт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включаются расходы на создание условий, обеспечивающих повышение мотивации ж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Новопоселеновского сельсовета к занятиям физической культурой и спортом, материально-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564b3c"/>
                </a:solidFill>
                <a:latin typeface="Times New Roman"/>
              </a:rPr>
              <a:t>обеспечение спортивных команд Новопоселеновского сельсо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1"/>
          <p:cNvSpPr/>
          <p:nvPr/>
        </p:nvSpPr>
        <p:spPr>
          <a:xfrm>
            <a:off x="3657600" y="35812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5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11"/>
          <p:cNvSpPr/>
          <p:nvPr/>
        </p:nvSpPr>
        <p:spPr>
          <a:xfrm>
            <a:off x="6477120" y="304812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4b3c"/>
                </a:solidFill>
                <a:latin typeface="Times New Roman"/>
              </a:rPr>
              <a:t>150 000 руб</a:t>
            </a:r>
            <a:r>
              <a:rPr b="1" lang="ru-RU" sz="1800" spc="-1" strike="noStrike">
                <a:solidFill>
                  <a:srgbClr val="564b3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29"/>
          <p:cNvSpPr/>
          <p:nvPr/>
        </p:nvSpPr>
        <p:spPr>
          <a:xfrm>
            <a:off x="4419720" y="3200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29"/>
          <p:cNvSpPr/>
          <p:nvPr/>
        </p:nvSpPr>
        <p:spPr>
          <a:xfrm>
            <a:off x="7162920" y="26668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B4BB-187C-4FD5-8DA9-783D072C74D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11"/>
          <p:cNvSpPr/>
          <p:nvPr/>
        </p:nvSpPr>
        <p:spPr>
          <a:xfrm>
            <a:off x="533520" y="304920"/>
            <a:ext cx="81532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ходные обязательства бюдже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овопоселеновскогосельсовета Курского рай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11"/>
          <p:cNvSpPr/>
          <p:nvPr/>
        </p:nvSpPr>
        <p:spPr>
          <a:xfrm>
            <a:off x="228600" y="1706400"/>
            <a:ext cx="8686800" cy="53802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ные обязательства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возникающие на основе закона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о нормативного правового акта, договора или соглашения обязан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о-правового образования или действующего от его имени бюджетного учрежде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физическому или юридическому лицу, иному публично-правовому образованию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з соответствующего бюджет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озникающие на основе закона, иного нормативного правового акт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о-правового образования перед физическим или юридическим лиц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м публично-правовым образованием, подлежащие исполнению в установленно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законом, иным нормативным правовым актом размере ил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 установленный указанным законом, актом порядок его опреде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нормативные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убличные обязательства перед физическим лиц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ие исполнению в денежной форме в установленном соответствующим закон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м нормативным правовым актом размере или имеющие установленный порядок ег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ации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55A8-3900-410D-823F-29A452DF7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0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11"/>
          <p:cNvSpPr/>
          <p:nvPr/>
        </p:nvSpPr>
        <p:spPr>
          <a:xfrm>
            <a:off x="609480" y="304920"/>
            <a:ext cx="815364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еестр расходных обязательст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228600" y="2019240"/>
            <a:ext cx="8686800" cy="44960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 целях надлежащего контроля за осуществлением расходных обязательств 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рганы государственной и муниципальной власти возложена обязанность п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едению реестра расходных обязательст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естр расходных обязательств,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используемый при составлении проекта бюджета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вод (перечень) законов, иных нормативных правовых акт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муниципальных правовых актов, обуславливающих публичные нормативные обязательства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(или) правовые основания для иных расходных обязательств с указанием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оответствующих положений (статей, частей, пунктов, подпунктов, абзацев) законов 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ых нормативных правовых актов с оценкой объёмов бюджетных ассигновани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еобходимых для исполнения включённых в реестр обязательств. 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5A84-90F0-4BC1-8B84-FBC07EA89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1"/>
          <p:cNvSpPr/>
          <p:nvPr/>
        </p:nvSpPr>
        <p:spPr>
          <a:xfrm>
            <a:off x="533520" y="482760"/>
            <a:ext cx="81532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</a:rPr>
              <a:t>обязательства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1"/>
          <p:cNvSpPr/>
          <p:nvPr/>
        </p:nvSpPr>
        <p:spPr>
          <a:xfrm>
            <a:off x="685800" y="1890720"/>
            <a:ext cx="8153280" cy="44956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бличные нормативные обязательства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– эт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убличные обязательства перед физическим лицом, подлежащие исполнению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 денежной форме в установленном соответствующим законо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ным нормативным правовым актом размере или имеющ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установленный порядок его индексации, за исключением выплат физическому лиц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дусмотренных статусом государственных (муниципальных) служащих, а также лиц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замещающих государственные должности Российской Федера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государственные должности субъектов Российской Федераци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муниципальные должности, работников казенных учреждени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военнослужащих, проходящих военную службу по призыву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(обладающих статусом военнослужащих, проходящих военную службу по призыву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лиц, обучающихся в государственных или муниципальных организациях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существляющих образовательную деятельнос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63D0-B81F-4010-9409-E9B65A8B9E3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11"/>
          <p:cNvSpPr/>
          <p:nvPr/>
        </p:nvSpPr>
        <p:spPr>
          <a:xfrm>
            <a:off x="647640" y="571680"/>
            <a:ext cx="815364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язательствам в 2024 году, руб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11"/>
          <p:cNvSpPr/>
          <p:nvPr/>
        </p:nvSpPr>
        <p:spPr>
          <a:xfrm>
            <a:off x="7010280" y="2895480"/>
            <a:ext cx="1905120" cy="11430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55 686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11"/>
          <p:cNvSpPr/>
          <p:nvPr/>
        </p:nvSpPr>
        <p:spPr>
          <a:xfrm>
            <a:off x="152280" y="251460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плата пенсий за выслугу лет и доп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 пенсиям муниципальных служа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37"/>
          <p:cNvSpPr/>
          <p:nvPr/>
        </p:nvSpPr>
        <p:spPr>
          <a:xfrm>
            <a:off x="6477120" y="3124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2D35-B44C-40D6-A9F4-29A5A5526C4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11"/>
          <p:cNvSpPr/>
          <p:nvPr/>
        </p:nvSpPr>
        <p:spPr>
          <a:xfrm>
            <a:off x="609480" y="1600200"/>
            <a:ext cx="815364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язательствам в 2025 году, руб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11"/>
          <p:cNvSpPr/>
          <p:nvPr/>
        </p:nvSpPr>
        <p:spPr>
          <a:xfrm>
            <a:off x="7010280" y="2590920"/>
            <a:ext cx="1905120" cy="1828800"/>
          </a:xfrm>
          <a:prstGeom prst="roundRect">
            <a:avLst>
              <a:gd name="adj" fmla="val 1666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55 686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11"/>
          <p:cNvSpPr/>
          <p:nvPr/>
        </p:nvSpPr>
        <p:spPr>
          <a:xfrm>
            <a:off x="152280" y="2514600"/>
            <a:ext cx="6705720" cy="2057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плата пенсий за выслугу лет и доп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 пенсиям муниципальных служа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37"/>
          <p:cNvSpPr/>
          <p:nvPr/>
        </p:nvSpPr>
        <p:spPr>
          <a:xfrm>
            <a:off x="6477120" y="3124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509A-00FA-4228-9592-FED91946B8A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11"/>
          <p:cNvSpPr/>
          <p:nvPr/>
        </p:nvSpPr>
        <p:spPr>
          <a:xfrm>
            <a:off x="762120" y="457200"/>
            <a:ext cx="815328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ходы по публично-нормативны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язательствам в 2026 году, руб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11"/>
          <p:cNvSpPr/>
          <p:nvPr/>
        </p:nvSpPr>
        <p:spPr>
          <a:xfrm>
            <a:off x="7010280" y="2590920"/>
            <a:ext cx="1905120" cy="20574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057400"/>
              <a:gd name="textAreaBottom" fmla="*/ 1964520 h 2057400"/>
            </a:gdLst>
            <a:ahLst/>
            <a:rect l="textAreaLeft" t="textAreaTop" r="textAreaRight" b="textAreaBottom"/>
            <a:pathLst>
              <a:path w="21600" h="23326">
                <a:moveTo>
                  <a:pt x="3600" y="0"/>
                </a:moveTo>
                <a:arcTo wR="3600" hR="3600" stAng="16200000" swAng="-5400000"/>
                <a:lnTo>
                  <a:pt x="0" y="19726"/>
                </a:lnTo>
                <a:arcTo wR="3600" hR="3600" stAng="10800000" swAng="-5400000"/>
                <a:lnTo>
                  <a:pt x="18000" y="233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55 686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11"/>
          <p:cNvSpPr/>
          <p:nvPr/>
        </p:nvSpPr>
        <p:spPr>
          <a:xfrm>
            <a:off x="152280" y="2514600"/>
            <a:ext cx="6705720" cy="228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плата пенсий за выслугу лет и доп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 пенсиям муниципальных служа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37"/>
          <p:cNvSpPr/>
          <p:nvPr/>
        </p:nvSpPr>
        <p:spPr>
          <a:xfrm>
            <a:off x="6477120" y="3276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13F6-0234-40CE-8D25-0E34824A2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1"/>
          <p:cNvSpPr/>
          <p:nvPr/>
        </p:nvSpPr>
        <p:spPr>
          <a:xfrm>
            <a:off x="317520" y="0"/>
            <a:ext cx="8763120" cy="13716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Муниципальная программ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</a:rPr>
              <a:t>э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умент, определяющий цели и 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й политики в определенной сфере, способы их достиж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мы используемых финансов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228600" y="3048120"/>
            <a:ext cx="2133720" cy="2286000"/>
          </a:xfrm>
          <a:custGeom>
            <a:avLst/>
            <a:gdLst>
              <a:gd name="textAreaLeft" fmla="*/ 118800 w 2133720"/>
              <a:gd name="textAreaRight" fmla="*/ 2014920 w 2133720"/>
              <a:gd name="textAreaTop" fmla="*/ 118800 h 2286000"/>
              <a:gd name="textAreaBottom" fmla="*/ 2167200 h 2286000"/>
            </a:gdLst>
            <a:ahLst/>
            <a:rect l="textAreaLeft" t="textAreaTop" r="textAreaRight" b="textAreaBottom"/>
            <a:pathLst>
              <a:path w="21600" h="23141">
                <a:moveTo>
                  <a:pt x="4114" y="0"/>
                </a:moveTo>
                <a:arcTo wR="4114" hR="4114" stAng="16200000" swAng="-5400000"/>
                <a:lnTo>
                  <a:pt x="0" y="19027"/>
                </a:lnTo>
                <a:arcTo wR="4114" hR="4114" stAng="10800000" swAng="-5400000"/>
                <a:lnTo>
                  <a:pt x="17486" y="23141"/>
                </a:lnTo>
                <a:arcTo wR="4114" hR="4114" stAng="5400000" swAng="-5400000"/>
                <a:lnTo>
                  <a:pt x="21600" y="4114"/>
                </a:lnTo>
                <a:arcTo wR="4114" hR="4114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ффектив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ив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2666880" y="3022560"/>
            <a:ext cx="3810240" cy="2514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ения показателей програм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катором по направл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йствия программы и сигнализир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плохом или хорошем результа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онирования программ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сти принятия но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7"/>
          <p:cNvSpPr/>
          <p:nvPr/>
        </p:nvSpPr>
        <p:spPr>
          <a:xfrm>
            <a:off x="6781680" y="3086280"/>
            <a:ext cx="2210040" cy="2209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мках програм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равл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дости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данного програм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1"/>
          <p:cNvSpPr/>
          <p:nvPr/>
        </p:nvSpPr>
        <p:spPr>
          <a:xfrm>
            <a:off x="1828800" y="1714680"/>
            <a:ext cx="5791320" cy="6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64b3c"/>
                </a:solidFill>
                <a:latin typeface="Times New Roman"/>
              </a:rPr>
              <a:t>Цели формирования муниципальной программы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64b3c"/>
                </a:solidFill>
                <a:latin typeface="Times New Roman"/>
              </a:rPr>
              <a:t>в рамках бюджетного проце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7"/>
          <p:cNvSpPr/>
          <p:nvPr/>
        </p:nvSpPr>
        <p:spPr>
          <a:xfrm flipH="1">
            <a:off x="1295280" y="236232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8"/>
          <p:cNvSpPr/>
          <p:nvPr/>
        </p:nvSpPr>
        <p:spPr>
          <a:xfrm>
            <a:off x="457200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9"/>
          <p:cNvSpPr/>
          <p:nvPr/>
        </p:nvSpPr>
        <p:spPr>
          <a:xfrm>
            <a:off x="4572000" y="2362320"/>
            <a:ext cx="3276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0637-CDF0-4C2F-8FDE-689B7F43F89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139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533520" y="213372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533520" y="685800"/>
            <a:ext cx="8381880" cy="533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ная система Р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8" descr="LEFaKxFvcWI"/>
          <p:cNvPicPr/>
          <p:nvPr/>
        </p:nvPicPr>
        <p:blipFill>
          <a:blip r:embed="rId2"/>
          <a:stretch/>
        </p:blipFill>
        <p:spPr>
          <a:xfrm>
            <a:off x="0" y="4753080"/>
            <a:ext cx="2590920" cy="210492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11"/>
          <p:cNvSpPr/>
          <p:nvPr/>
        </p:nvSpPr>
        <p:spPr>
          <a:xfrm>
            <a:off x="304920" y="2743200"/>
            <a:ext cx="4495680" cy="6094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бюджет; 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х внебюджетных фон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1143000" y="34290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1143000" y="3886200"/>
            <a:ext cx="5257800" cy="6094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ы субъектов РФ; бюджеты территори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х внебюджетных фон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1"/>
          <p:cNvSpPr/>
          <p:nvPr/>
        </p:nvSpPr>
        <p:spPr>
          <a:xfrm>
            <a:off x="2362320" y="4572000"/>
            <a:ext cx="190476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1"/>
          <p:cNvSpPr/>
          <p:nvPr/>
        </p:nvSpPr>
        <p:spPr>
          <a:xfrm>
            <a:off x="2362320" y="5029200"/>
            <a:ext cx="6553080" cy="8380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ы муниципальных районов; бюджеты город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гов; бюджеты внутригородских 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ов федерального значения Москвы и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1"/>
          <p:cNvSpPr/>
          <p:nvPr/>
        </p:nvSpPr>
        <p:spPr>
          <a:xfrm>
            <a:off x="3581280" y="59436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урове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3581280" y="6400800"/>
            <a:ext cx="5334120" cy="30492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ы городских и 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58BD-CCED-437C-B0D3-F228A336C2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11"/>
          <p:cNvSpPr/>
          <p:nvPr/>
        </p:nvSpPr>
        <p:spPr>
          <a:xfrm>
            <a:off x="266760" y="2044800"/>
            <a:ext cx="8610480" cy="3962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т благосостояния граждан - получа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 социальной поддерж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255 686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5 год – 255 686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6 год – 255 686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выплате пенсий за выслугу лет и доплат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нсиям муниципальных служащи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11"/>
          <p:cNvSpPr/>
          <p:nvPr/>
        </p:nvSpPr>
        <p:spPr>
          <a:xfrm>
            <a:off x="304920" y="152280"/>
            <a:ext cx="8534160" cy="1067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Социальная поддержка граждан Новопоселеновского сельсовета Курского рай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ской области на 2022-2026 годы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0B12-F32D-4C3C-B532-BF6CFA57D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0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1"/>
          <p:cNvSpPr/>
          <p:nvPr/>
        </p:nvSpPr>
        <p:spPr>
          <a:xfrm>
            <a:off x="482760" y="152280"/>
            <a:ext cx="8534160" cy="99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Управление муниципальным имуществом и земельными ресурс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вопоселеновского сельсовета Курского района Курской области на 2023-2027 годы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11"/>
          <p:cNvSpPr/>
          <p:nvPr/>
        </p:nvSpPr>
        <p:spPr>
          <a:xfrm>
            <a:off x="482760" y="2666880"/>
            <a:ext cx="8356320" cy="4038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повышение эффективности управления и распоряж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ниципальным имуществом, земельными ресур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муниципа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бственности на терр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опоселеновского сельсовета Кур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500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5 год – 500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6 год – 500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 в области  имущественных и земельных отноше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формление документов, регистрация пра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оряжение имуще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5D59-F66B-4C49-93B6-73CAEA44F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1260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7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11"/>
          <p:cNvSpPr/>
          <p:nvPr/>
        </p:nvSpPr>
        <p:spPr>
          <a:xfrm>
            <a:off x="457200" y="152280"/>
            <a:ext cx="8534520" cy="1219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Формирование современной городской среды» на террит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Новопоселеновский сельсов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ского района Кур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1"/>
          <p:cNvSpPr/>
          <p:nvPr/>
        </p:nvSpPr>
        <p:spPr>
          <a:xfrm>
            <a:off x="736560" y="1955880"/>
            <a:ext cx="8229600" cy="3886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учшение условий жизнедеятельности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опоселеновского сельсовета Кур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1 471 669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5 год – 22 111 руб. 00 ко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6 год – 22 211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благоустройству общественных террито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воровых территорий многоквартирных до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C284-B2BE-4D89-AD17-7BFE91F67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11"/>
          <p:cNvSpPr/>
          <p:nvPr/>
        </p:nvSpPr>
        <p:spPr>
          <a:xfrm>
            <a:off x="1066680" y="152280"/>
            <a:ext cx="7543800" cy="1219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рофилактика правонарушений в муниципальном обра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Новопоселеновский сельсовет» Курского района К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2023-2027 год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11"/>
          <p:cNvSpPr/>
          <p:nvPr/>
        </p:nvSpPr>
        <p:spPr>
          <a:xfrm>
            <a:off x="368280" y="2019240"/>
            <a:ext cx="8077320" cy="4191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повышение качества и эффективности работы систе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филактики преступлений и иных правонаруш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тношении определённых категорий лиц 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дельным видам противоправн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создание условий для профилактики и приостано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та злоупотребления наркотиками и их незаконного оборо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допущения распространения наркомании и связанных с 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ступности и правонаруш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5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5 год – 5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6 год – 5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приобретению информационных стенд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титеррористической направленности, а такж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стовок и плакатов антинаркотической направл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D277-4CC0-487D-8290-9644A3527A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1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343080" y="304920"/>
            <a:ext cx="8534160" cy="1143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Обеспечение доступным и комфортным жильем и коммунальными услуг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ждан Новопоселеновского сельсовета Кур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 - 2026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11"/>
          <p:cNvSpPr/>
          <p:nvPr/>
        </p:nvSpPr>
        <p:spPr>
          <a:xfrm>
            <a:off x="914400" y="1890720"/>
            <a:ext cx="7962840" cy="3886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учшение условий жизни жителей Новопоселеновского сель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рского рай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5 257 628 руб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5 год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257 628 руб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6 год – 5 257 62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б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благоустройству, содержанию мест захорон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условий для массового отдыха жителей поселения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рганизацию обустройства мест массового отдыха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9A3D-E831-4F52-8526-4A94CF274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AutoShape 11"/>
          <p:cNvSpPr/>
          <p:nvPr/>
        </p:nvSpPr>
        <p:spPr>
          <a:xfrm>
            <a:off x="228600" y="38160"/>
            <a:ext cx="8610480" cy="129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Повышение эффективности работы с молодежью, организация отдых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здоровления детей, молодежи, развитие физической культуры и спор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Новопоселеновском сельсовете Курского райо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6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11"/>
          <p:cNvSpPr/>
          <p:nvPr/>
        </p:nvSpPr>
        <p:spPr>
          <a:xfrm>
            <a:off x="1143000" y="2209680"/>
            <a:ext cx="7238880" cy="3733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создание возможностей для успеш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изации и эффективной самореализации молодых люд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воспитание нравственно развитого и физ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ого юного гражданина Росс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4 год – 150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5 год – 150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2026 год – 150 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укреплению материальной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звития массового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61A0-3E93-4C3B-ABF3-1F2C96B57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5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11"/>
          <p:cNvSpPr/>
          <p:nvPr/>
        </p:nvSpPr>
        <p:spPr>
          <a:xfrm>
            <a:off x="457200" y="88920"/>
            <a:ext cx="8534520" cy="120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Защита населения и территории от чрезвычайных ситуаций, обеспе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жарной безопасности и безопасности людей на водных объектах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вопоселеновском сельсовете Курского района Ку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2-2026 годы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11"/>
          <p:cNvSpPr/>
          <p:nvPr/>
        </p:nvSpPr>
        <p:spPr>
          <a:xfrm>
            <a:off x="457200" y="2324160"/>
            <a:ext cx="8153280" cy="3505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комплексной безопас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еления и террит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опоселеновского сельсовета Курского района от чрезвыча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туаций природного и техногенного харак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объем финанс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4 год – 40 0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5 год – 40 0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26 год – 40 0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нансовые средства программы предусмотрены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роприятия по предупреждению и ликвид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ствий  чрезвычайных ситуаций и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вичных мер  пожарной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259B-B746-4280-BEAA-BADEA5B6F8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11"/>
          <p:cNvSpPr/>
          <p:nvPr/>
        </p:nvSpPr>
        <p:spPr>
          <a:xfrm>
            <a:off x="457200" y="2133720"/>
            <a:ext cx="8381880" cy="3809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 ДЛЯ КОНТАК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МИНИСТРАЦИЯ НОВОПОСЕЛЕНОВ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ЛЬСОВЕТА  КУРСКОГО РАЙОНА КУР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РЕС: Курская обл., Курский р-н, д 1-е Цветово, ул. Советская, 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ЛЕФОН: 7(4712) 59-22-19, 59-22-36, 59-22-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рес электронной почты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-posele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sowet@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афик работы: 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 до 17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ыходные: суббота и воскресень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6F3F-9A4D-4033-BA00-DC1BEA30E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8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11"/>
          <p:cNvSpPr/>
          <p:nvPr/>
        </p:nvSpPr>
        <p:spPr>
          <a:xfrm>
            <a:off x="304920" y="1600200"/>
            <a:ext cx="8534160" cy="5105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щение к жителям Новопоселеновского сельсове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важаемые жители и гости Новопоселеновского сельсове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щаем Ваше внимание, что през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Бюджет для граждан» составлена к проекту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рания депутатов Новопоселеновского сельсовета Ку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 бюджете Новопоселеновского сельсовета Курского района на 2023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лановый период 2024 и 2025 г.г.» и носит ознакомительны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ончательный вариант бюджета Новопоселеновского сельсовета Ку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2023 год и на плановый период 2024 и 2025 г.г. будет утвержден реш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рания депутатов Новопоселеновского сельсовета Кур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соблюдения всех процедур по рассмотрению и принятию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утвержденным решением Собрания депу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опоселеновского сельсовета Ку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 бюджете Новопоселеновского сельсовета Кур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2023 год и на плановый период 2024 и 2025 г.г.» , а также с последующ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сенными изменениями в данное решение можно будет ознакоми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официальном сайте Новопоселеновского сельсовета Курского рай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4669-8C72-466C-9589-6F878632E4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4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11"/>
          <p:cNvSpPr/>
          <p:nvPr/>
        </p:nvSpPr>
        <p:spPr>
          <a:xfrm>
            <a:off x="380880" y="2057400"/>
            <a:ext cx="8534520" cy="4038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СИБ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 ПОСЕТ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Й РЕС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опоселеновского сельсовета Кур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1"/>
          <p:cNvSpPr/>
          <p:nvPr/>
        </p:nvSpPr>
        <p:spPr>
          <a:xfrm>
            <a:off x="1066680" y="152280"/>
            <a:ext cx="6934320" cy="1219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ная система Новопоселеновского сельсо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ур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1"/>
          <p:cNvSpPr/>
          <p:nvPr/>
        </p:nvSpPr>
        <p:spPr>
          <a:xfrm>
            <a:off x="469800" y="2400480"/>
            <a:ext cx="4267440" cy="2133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4" descr="0617_171"/>
          <p:cNvPicPr/>
          <p:nvPr/>
        </p:nvPicPr>
        <p:blipFill>
          <a:blip r:embed="rId1"/>
          <a:stretch/>
        </p:blipFill>
        <p:spPr>
          <a:xfrm>
            <a:off x="6477120" y="2324160"/>
            <a:ext cx="190476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0826-FD12-4D34-9252-E885BC62510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28600" y="2514600"/>
            <a:ext cx="4267080" cy="18288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еятельность по составл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а бюджета, его рассмотре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ю, исполнению, составл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а об исполнении и его утвер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4724280" y="274320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тадии бюджетного проце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279360" y="304920"/>
            <a:ext cx="83818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юджетный процес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6" descr="g-cvr-1304120-taxes-840a"/>
          <p:cNvPicPr/>
          <p:nvPr/>
        </p:nvPicPr>
        <p:blipFill>
          <a:blip r:embed="rId2"/>
          <a:stretch/>
        </p:blipFill>
        <p:spPr>
          <a:xfrm>
            <a:off x="457200" y="4495680"/>
            <a:ext cx="3733920" cy="217188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11"/>
          <p:cNvSpPr/>
          <p:nvPr/>
        </p:nvSpPr>
        <p:spPr>
          <a:xfrm>
            <a:off x="4724280" y="3581280"/>
            <a:ext cx="4191120" cy="3812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зработка проекта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1"/>
          <p:cNvSpPr/>
          <p:nvPr/>
        </p:nvSpPr>
        <p:spPr>
          <a:xfrm>
            <a:off x="4724280" y="4191120"/>
            <a:ext cx="4191120" cy="3808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смотрение проекта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4724280" y="4800600"/>
            <a:ext cx="4191120" cy="3808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тверждение проекта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4724280" y="5410080"/>
            <a:ext cx="4191120" cy="38124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4724280" y="6019920"/>
            <a:ext cx="4267440" cy="6858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смотрение и утверждение отч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 исполнении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9"/>
          <p:cNvSpPr/>
          <p:nvPr/>
        </p:nvSpPr>
        <p:spPr>
          <a:xfrm>
            <a:off x="6477120" y="335268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9"/>
          <p:cNvSpPr/>
          <p:nvPr/>
        </p:nvSpPr>
        <p:spPr>
          <a:xfrm>
            <a:off x="6477120" y="3962520"/>
            <a:ext cx="5331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9"/>
          <p:cNvSpPr/>
          <p:nvPr/>
        </p:nvSpPr>
        <p:spPr>
          <a:xfrm>
            <a:off x="6477120" y="457200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6477120" y="518148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9"/>
          <p:cNvSpPr/>
          <p:nvPr/>
        </p:nvSpPr>
        <p:spPr>
          <a:xfrm>
            <a:off x="6477120" y="5791320"/>
            <a:ext cx="5331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DB28-9194-48F6-BEBE-7E68E829AF6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3816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228600" y="2031840"/>
            <a:ext cx="396252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логоплательщик,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форм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ную часть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4813200" y="3276720"/>
            <a:ext cx="4191120" cy="2361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И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х гарантий в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КХ,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й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а и други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х гарантий населени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ная часть бюдже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1"/>
          <p:cNvSpPr/>
          <p:nvPr/>
        </p:nvSpPr>
        <p:spPr>
          <a:xfrm>
            <a:off x="419040" y="304920"/>
            <a:ext cx="838224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частие граждан в бюджетном процесс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9" descr="налоги"/>
          <p:cNvPicPr/>
          <p:nvPr/>
        </p:nvPicPr>
        <p:blipFill>
          <a:blip r:embed="rId2"/>
          <a:stretch/>
        </p:blipFill>
        <p:spPr>
          <a:xfrm>
            <a:off x="609480" y="3733920"/>
            <a:ext cx="3429000" cy="28447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29"/>
          <p:cNvSpPr/>
          <p:nvPr/>
        </p:nvSpPr>
        <p:spPr>
          <a:xfrm>
            <a:off x="2019240" y="157464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9"/>
          <p:cNvSpPr/>
          <p:nvPr/>
        </p:nvSpPr>
        <p:spPr>
          <a:xfrm>
            <a:off x="6553080" y="1486080"/>
            <a:ext cx="533520" cy="1752480"/>
          </a:xfrm>
          <a:prstGeom prst="downArrow">
            <a:avLst>
              <a:gd name="adj1" fmla="val 50000"/>
              <a:gd name="adj2" fmla="val 82119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F0DB-BDE6-40FF-A8A5-0643EF927D0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фон голубой с переходом"/>
          <p:cNvPicPr/>
          <p:nvPr/>
        </p:nvPicPr>
        <p:blipFill>
          <a:blip r:embed="rId1"/>
          <a:stretch/>
        </p:blipFill>
        <p:spPr>
          <a:xfrm>
            <a:off x="-22860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Line 9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685800" y="1523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914400" y="167652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1"/>
          <p:cNvSpPr/>
          <p:nvPr/>
        </p:nvSpPr>
        <p:spPr>
          <a:xfrm>
            <a:off x="228600" y="3009960"/>
            <a:ext cx="411480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убличные слуш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 проекту бюдж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овопоселеновского сельсов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урского района Кур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1"/>
          <p:cNvSpPr/>
          <p:nvPr/>
        </p:nvSpPr>
        <p:spPr>
          <a:xfrm>
            <a:off x="5257800" y="3124080"/>
            <a:ext cx="3505320" cy="160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убличные слуш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 проект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 исполнении бюдж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1"/>
          <p:cNvSpPr/>
          <p:nvPr/>
        </p:nvSpPr>
        <p:spPr>
          <a:xfrm>
            <a:off x="533520" y="304920"/>
            <a:ext cx="8381880" cy="838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озможности влияния граждан на состав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9"/>
          <p:cNvSpPr/>
          <p:nvPr/>
        </p:nvSpPr>
        <p:spPr>
          <a:xfrm>
            <a:off x="8089920" y="1486080"/>
            <a:ext cx="533520" cy="1485720"/>
          </a:xfrm>
          <a:prstGeom prst="downArrow">
            <a:avLst>
              <a:gd name="adj1" fmla="val 50000"/>
              <a:gd name="adj2" fmla="val 11781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9"/>
          <p:cNvSpPr/>
          <p:nvPr/>
        </p:nvSpPr>
        <p:spPr>
          <a:xfrm>
            <a:off x="1752480" y="1486080"/>
            <a:ext cx="533520" cy="1485720"/>
          </a:xfrm>
          <a:prstGeom prst="downArrow">
            <a:avLst>
              <a:gd name="adj1" fmla="val 50000"/>
              <a:gd name="adj2" fmla="val 117810"/>
            </a:avLst>
          </a:prstGeom>
          <a:solidFill>
            <a:srgbClr val="93a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11-16T08:56:19Z</dcterms:modified>
  <cp:revision>7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